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70344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3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4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5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3A9B-2125-44D8-96CF-22491588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BFF-5426-46FD-B0BE-41A6FE8C8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843-4CAB-406D-8146-9D8955FA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B25-C320-4C03-AAE1-58E99E9D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F819E-6FDC-462B-AD82-771C4AED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2B5B4-F894-472F-A10B-7C78F99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B24DF-D7B0-42CC-A5B0-5884B051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360D3-3276-4B1D-A4E1-91EBC46E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DDAE7-488C-421D-AA7A-201BE5A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5C29-79FF-4BAB-AB77-6E9E339C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48ABD-057D-4988-B3E1-A38D234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A03A7-211D-48AD-86EA-4A9AE726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EFB43-3FB4-4E33-AD17-D26F5631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F7490-0B8C-462D-B3A5-54765AF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AE0-DB7F-4005-8BB3-5FB4AFE3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4561-3B3B-42CA-A489-DF034EC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5492D-36E3-4A43-BF1F-848DE14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34EAC-FCF7-4616-8CE3-67BF9BF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4E688-E4B3-4A2F-86A2-51BDA9B5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403CF-1FD2-42C1-A32C-5FA0F011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F6CD3-2BA1-4B29-BBC6-64A11EDD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6E5D6-565E-4542-B92B-BE56F491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FE107-D72B-4E5D-B8E0-5778678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95445-71A2-4DBE-A78B-84F1183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92EFE-2A9F-4D56-BE01-EB90B368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D6A-9F84-4157-8415-944DFED0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D5BDC-4A64-4DD7-B411-DC22D6C9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BF02-EA4C-448D-A998-EAD15574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01209-29EF-4D37-AF82-D57EECB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553F9-0DF9-4A95-9FC2-30D08A81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F9CEF-5B11-45F3-A265-7CBB9943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FF4C7-D630-4C48-91CC-FEB9860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7E952-88E1-4234-92DF-385DC441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08FC-C131-4F7B-ACEF-15D6EE4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C88EC-C7C3-4D85-B76F-3354E12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DF525-8A57-4843-B4F7-6B1896F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8F9-2472-4139-B606-F3BCA2B0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5B8A4-AB4D-455C-844D-8FE38BD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61927-DC4B-4238-97CD-2C9EBDE1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43D3-1304-428A-B093-10C98791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F1B52-D827-42D1-8032-56AC1B36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F8AA2-5C34-421C-8672-BB03AC3D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F7709-E4ED-47DE-84D1-D81A961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BBC20-7E0B-466E-A928-8C3E257A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BD8AC-F07D-425A-A463-A0D7D34D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9FD06-724F-4DCD-85AE-9648BBF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6782B-1FFF-49D4-BD52-56AA4829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8D6-E283-4744-874A-6AEADDA7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6081A-9926-483E-A134-8C0D0D6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BB9E3-7607-4EC9-A4A4-22C37C63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A576C-C655-44C0-8C1A-2046D639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4A63E-33E6-48E8-92CD-0301F60B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8E286-5DD8-414F-8780-5B58BB7B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506CF-6E60-4E45-9C5C-FB8522D6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DCCDA-1042-4E3E-8A9B-4BFAAAB0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0EEBB-CBBB-4E28-8A86-24C1773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A23C0-347D-4970-ABC1-E147A5B6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3BADD-3630-44B0-86DA-AC164DB0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615-9CE9-43F4-99DA-3103E6ED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ED636-E1B4-4A27-9B7C-0252611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E1845-D830-415B-9194-86A56A21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8B6E5-ADBD-47E1-AD10-7B1EBB22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B728B-549C-43F8-A88A-1F684157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5F80E-785A-421F-8894-80C4D22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02624-59FA-4AE7-899B-A0515A95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4F060-0320-4247-A3E8-5230B140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FB552-8106-46C5-827D-01ED707B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19062-696A-4A74-8A47-7A59479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BA3F9-B300-472B-B36E-817BD9E6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1A0C-8DA6-4790-ACE7-F2F8F60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011C8-6533-430D-9B2E-C19EC6FC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7B7AF-284B-4B49-ACFF-15D0D7EF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57E41-DF7A-4CC2-BE4A-8178A1E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41823-5A53-4252-8DC5-9064571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48E19-81B5-4832-969D-43C15F3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1FD54-A452-4D99-BC98-E5B693A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CE2A7-A386-4338-B4E9-874521B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528D-4C06-477D-A681-984DBD8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6A538-CF21-4E19-8FFB-04B5F7C4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FC75-F5D5-41FE-9586-FF38E3F1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8BF9-F37E-4D31-BA94-3117536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235A-D175-4AF4-8FC0-0E7F69C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4E3-C22D-4883-9351-98005F9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2331-1E5A-40F4-A251-674FA70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179F-2B32-4831-8905-DB984F9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F384-F4FF-49B2-9B80-DE6DF0D9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2C97-04F8-40AF-ACC8-1E2697FE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0CBB-1516-4E5B-BC4C-107DBE8C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2976-7870-4933-99EF-A700A8B1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2F9B-2E4D-4352-9AE9-F88D00E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998F-EEC4-48BC-9245-50418DF4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AB83-C6B9-4E0F-A016-5913A45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F92A-F9F4-48C4-9E2C-67A78E2F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B06-A6F7-453C-A11E-BD61652B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8A04-A4ED-4FE6-A977-6B15EBC1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B2B6-5DF4-4EF7-9A9C-CB22195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EED2-B6D8-47D5-BDCF-C5E9097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44DE-F1E3-4A74-99C0-6017451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3DA0-8545-4C7A-BE22-D2D002D9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59EF-ADC5-42A9-9050-5A1477D4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F243-6E3C-441F-B8FC-919F4CB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436D-7401-469C-ADCF-11ECE4AA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9649-829B-4100-8919-4156F0AD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63B7B-EBE0-4EC0-AF48-1365089A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55E-0C93-4CE7-9D7E-F58B628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10C3-21C9-433A-9383-9C891B6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9AD0-A9A6-4C23-8E13-211DB544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BB57-8A23-47CE-B312-E182E35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131DC-42AD-4A27-901A-82E4388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19C0-C671-4E98-9386-CEF4D105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FEE4-3688-42B8-9D08-7731D664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9DBF-BEFC-4446-8A58-3CDA219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5748-C129-4878-B789-0599806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E56C-7478-43DD-AAF0-A637FFBB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9149-FC68-4300-8695-96CA99D2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713-F4A8-485C-8F24-C7B7ED2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2085-7EA8-4CB5-9E06-3A201CE4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0B6F-6CBB-4B62-87C4-0CB2124A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8F9EF-D7D8-44D8-81D5-5109D9C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68D9-066F-4BAE-AC62-65872715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F268-DBEA-4698-8673-8FF3578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49D5-EF97-4E7F-9DFF-3CE17E4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3C1C-9C0F-4272-B1C6-16B3BE9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33BCA-AC10-480E-A9B1-012459B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6704-8A20-4F69-95FC-8B3AA42F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C4CB-60D5-45EE-886A-B418C7A2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7E9-6BC0-4352-8A67-97163EC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95E7-D96A-45C6-9008-C7CE36E7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8931D-122F-425B-899D-1A22069E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0C37A-AFFA-45AE-850E-20837E41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B450B-3A0A-4B8B-8C30-9661ACBF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8772-AABF-4082-A1B6-5466AE9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D375-DEA8-4CCF-B8E2-9ADB49B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EA1AB-E4D4-400F-BADA-42182509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7BC4-87B9-49A9-B9DF-0DF4DEA0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4BF6-F283-421E-908E-3AD7D1A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8F7CB-2A5B-4ED9-BD13-41C0A04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8B0-21F3-439E-8D48-1399B4F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0219-1A24-477D-9305-FE354535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0CA41-E2CA-47DA-ABB7-82B958D3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7E56-6332-4BF8-96A8-BF820439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4D78-C04D-4006-99C5-065038C5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8A4B-F8FD-457A-AFA0-F234A65B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71B9D-7F98-426D-95E4-9804DD1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98EA-4D88-4B71-BB8F-863A09F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9A8F-28D5-4A0C-B650-C88C67C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23D9-F442-4B0E-8887-7639EF6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622CB-FF3A-47E8-91E2-6EF5F671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DAF-EF26-46EF-A416-4E3D770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B7DD-B899-4FB4-AE45-3DA5B27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35BED-F60A-483A-9AFA-9F3A964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46AA-DD22-4B31-8A33-671224EF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2CE1F-C5DC-45BC-9B1F-29E5E9F3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21D2-1B1D-4B3E-AB46-A7CE7F2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66C1-5FEC-4991-ADD6-486D05C4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4EAE-AECE-4DD9-8E24-F165283B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10A2-9FCB-40BC-A743-4A0162C4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C6A49-073A-4BD0-A2A3-638A0FCD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1B14-E51B-426D-ADDC-07200EE3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253-7E0F-4233-B76C-EBA96E42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60EC-7ADA-42A2-A91D-A40F8C9D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7CF5E-794F-421B-9F1F-E73777AF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0D4AB-3513-4F96-9103-16EF5CC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E230-E1AF-44A0-B632-50C3658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41C0E-3C77-4975-9188-3CC6EC2E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B487-475D-4227-8582-0CBF4293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1653-C5C3-4680-B10B-672F2D8D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35F94-525B-426C-A32D-5D55B548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ABA84-E4DF-4141-90A1-46CB6E52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55C0C-2E83-4A53-AD16-589F35DB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48690" t="0" r="0" b="0"/>
          <a:stretch/>
        </p:blipFill>
        <p:spPr>
          <a:xfrm>
            <a:off x="7086600" y="285840"/>
            <a:ext cx="2057400" cy="41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F458-B1E4-4FCA-84F7-03DE7C157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687240"/>
            <a:ext cx="9144000" cy="954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782640"/>
            <a:ext cx="152280" cy="57895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"/>
          <p:cNvPicPr/>
          <p:nvPr/>
        </p:nvPicPr>
        <p:blipFill>
          <a:blip r:embed="rId3"/>
          <a:stretch/>
        </p:blipFill>
        <p:spPr>
          <a:xfrm>
            <a:off x="3524400" y="76320"/>
            <a:ext cx="2342880" cy="52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4" descr="Brand_SERBIA_RGB_LO"/>
          <p:cNvPicPr/>
          <p:nvPr/>
        </p:nvPicPr>
        <p:blipFill>
          <a:blip r:embed="rId4"/>
          <a:stretch/>
        </p:blipFill>
        <p:spPr>
          <a:xfrm>
            <a:off x="7162920" y="76320"/>
            <a:ext cx="1752480" cy="2505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"/>
          <p:cNvPicPr/>
          <p:nvPr/>
        </p:nvPicPr>
        <p:blipFill>
          <a:blip r:embed="rId5"/>
          <a:stretch/>
        </p:blipFill>
        <p:spPr>
          <a:xfrm>
            <a:off x="609480" y="61920"/>
            <a:ext cx="5369040" cy="5428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" descr="Description: GRB GRAY 100%"/>
          <p:cNvPicPr/>
          <p:nvPr/>
        </p:nvPicPr>
        <p:blipFill>
          <a:blip r:embed="rId6"/>
          <a:stretch/>
        </p:blipFill>
        <p:spPr>
          <a:xfrm>
            <a:off x="152280" y="106200"/>
            <a:ext cx="38124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A4F-5891-4833-A0C2-6CA0F2C62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D26-F92E-4233-BEB8-3D142D82B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E6F-B809-45EC-84C8-3361B10E4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4494-0876-4C45-B59B-8D2BA1E3B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99AD-B19A-45D8-A22B-91F9B0041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3DB-7B5F-4DC2-9824-F8C94AE58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5" descr="Brand_SERBIA_RGB_LO"/>
          <p:cNvPicPr/>
          <p:nvPr/>
        </p:nvPicPr>
        <p:blipFill>
          <a:blip r:embed="rId2"/>
          <a:stretch/>
        </p:blipFill>
        <p:spPr>
          <a:xfrm>
            <a:off x="4495680" y="533520"/>
            <a:ext cx="4246560" cy="606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3"/>
          <a:stretch/>
        </p:blipFill>
        <p:spPr>
          <a:xfrm>
            <a:off x="152280" y="2743200"/>
            <a:ext cx="8991720" cy="4064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4"/>
          <a:stretch/>
        </p:blipFill>
        <p:spPr>
          <a:xfrm>
            <a:off x="228600" y="395280"/>
            <a:ext cx="3124080" cy="876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40D8-3478-4FD2-8AE5-47CF44BD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0" y="130824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1460520"/>
            <a:ext cx="152280" cy="53974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rcRect l="48690" t="0" r="0" b="0"/>
          <a:stretch/>
        </p:blipFill>
        <p:spPr>
          <a:xfrm>
            <a:off x="6553080" y="533520"/>
            <a:ext cx="2590920" cy="55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Brand_SERBIA_RGB_LO"/>
          <p:cNvPicPr/>
          <p:nvPr/>
        </p:nvPicPr>
        <p:blipFill>
          <a:blip r:embed="rId3"/>
          <a:stretch/>
        </p:blipFill>
        <p:spPr>
          <a:xfrm>
            <a:off x="6669000" y="219240"/>
            <a:ext cx="2206800" cy="31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4"/>
          <a:stretch/>
        </p:blipFill>
        <p:spPr>
          <a:xfrm>
            <a:off x="3429000" y="287280"/>
            <a:ext cx="312408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Description: GRB GRAY 100%"/>
          <p:cNvPicPr/>
          <p:nvPr/>
        </p:nvPicPr>
        <p:blipFill>
          <a:blip r:embed="rId5"/>
          <a:stretch/>
        </p:blipFill>
        <p:spPr>
          <a:xfrm>
            <a:off x="109440" y="316080"/>
            <a:ext cx="577800" cy="709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6"/>
          <a:stretch/>
        </p:blipFill>
        <p:spPr>
          <a:xfrm>
            <a:off x="750960" y="298440"/>
            <a:ext cx="64767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694-E875-4DD4-BF16-490FFCE42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4"/>
          <a:stretch/>
        </p:blipFill>
        <p:spPr>
          <a:xfrm>
            <a:off x="3139920" y="66600"/>
            <a:ext cx="2400480" cy="54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A6F-5B43-4EEA-9F8A-9A6FD0882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"/>
          <p:cNvPicPr/>
          <p:nvPr/>
        </p:nvPicPr>
        <p:blipFill>
          <a:blip r:embed="rId4"/>
          <a:stretch/>
        </p:blipFill>
        <p:spPr>
          <a:xfrm>
            <a:off x="3139920" y="66600"/>
            <a:ext cx="2400480" cy="5414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B7E-BA06-4B7C-A844-224528937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78D5-656A-40E0-B7BA-7CDB9FC55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F47-321B-452E-8AB2-47EC8F8FA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0" y="838080"/>
            <a:ext cx="152280" cy="601992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4" descr="Brand_SERBIA_RGB_LO"/>
          <p:cNvPicPr/>
          <p:nvPr/>
        </p:nvPicPr>
        <p:blipFill>
          <a:blip r:embed="rId2"/>
          <a:stretch/>
        </p:blipFill>
        <p:spPr>
          <a:xfrm>
            <a:off x="6629400" y="228600"/>
            <a:ext cx="2057400" cy="293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" descr=""/>
          <p:cNvPicPr/>
          <p:nvPr/>
        </p:nvPicPr>
        <p:blipFill>
          <a:blip r:embed="rId3"/>
          <a:stretch/>
        </p:blipFill>
        <p:spPr>
          <a:xfrm>
            <a:off x="380880" y="77760"/>
            <a:ext cx="1847880" cy="5446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4B51-45AB-41EC-80FB-240A876B4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gramska struktura, hijerarhija ciljeva i indikatori u</a:t>
            </a: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čin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Novi S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jun 2014. go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20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ZAJEDNIČKI PROGR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ounded Rectangle 3"/>
          <p:cNvSpPr/>
          <p:nvPr/>
        </p:nvSpPr>
        <p:spPr>
          <a:xfrm>
            <a:off x="2548080" y="1981080"/>
            <a:ext cx="4317840" cy="544680"/>
          </a:xfrm>
          <a:prstGeom prst="roundRect">
            <a:avLst>
              <a:gd name="adj" fmla="val 16667"/>
            </a:avLst>
          </a:prstGeom>
          <a:solidFill>
            <a:srgbClr val="1e4ab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Calibri"/>
              </a:rPr>
              <a:t>Program</a:t>
            </a: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ight Arrow 4"/>
          <p:cNvSpPr/>
          <p:nvPr/>
        </p:nvSpPr>
        <p:spPr>
          <a:xfrm rot="5400000">
            <a:off x="3360600" y="2639880"/>
            <a:ext cx="216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ed Rectangle 5"/>
          <p:cNvSpPr/>
          <p:nvPr/>
        </p:nvSpPr>
        <p:spPr>
          <a:xfrm>
            <a:off x="979560" y="351468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грамска активнос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ounded Rectangle 6"/>
          <p:cNvSpPr/>
          <p:nvPr/>
        </p:nvSpPr>
        <p:spPr>
          <a:xfrm>
            <a:off x="979560" y="421164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грамска активнос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ounded Rectangle 7"/>
          <p:cNvSpPr/>
          <p:nvPr/>
        </p:nvSpPr>
        <p:spPr>
          <a:xfrm>
            <a:off x="979560" y="4924440"/>
            <a:ext cx="2952720" cy="544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јека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6"/>
          <p:cNvSpPr/>
          <p:nvPr/>
        </p:nvSpPr>
        <p:spPr>
          <a:xfrm>
            <a:off x="233280" y="2916360"/>
            <a:ext cx="42181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9"/>
          <p:cNvSpPr/>
          <p:nvPr/>
        </p:nvSpPr>
        <p:spPr>
          <a:xfrm>
            <a:off x="5408640" y="3514680"/>
            <a:ext cx="2951280" cy="54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грамска активност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ed Rectangle 10"/>
          <p:cNvSpPr/>
          <p:nvPr/>
        </p:nvSpPr>
        <p:spPr>
          <a:xfrm>
            <a:off x="5413320" y="4379760"/>
            <a:ext cx="2951280" cy="54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Пројек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ight Arrow 11"/>
          <p:cNvSpPr/>
          <p:nvPr/>
        </p:nvSpPr>
        <p:spPr>
          <a:xfrm rot="5400000">
            <a:off x="5806440" y="2622600"/>
            <a:ext cx="216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1e4ab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6"/>
          <p:cNvSpPr/>
          <p:nvPr/>
        </p:nvSpPr>
        <p:spPr>
          <a:xfrm>
            <a:off x="4780080" y="2916360"/>
            <a:ext cx="42163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447840" y="2948040"/>
            <a:ext cx="383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risnik budžetskih sredstava 1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5100480" y="297324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1" lang="sr-Latn-RS" sz="2200" spc="-1" strike="noStrike">
                <a:solidFill>
                  <a:srgbClr val="000000"/>
                </a:solidFill>
                <a:latin typeface="Calibri"/>
              </a:rPr>
              <a:t>risnik budžetskih sredstava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ounded Rectangle 15"/>
          <p:cNvSpPr/>
          <p:nvPr/>
        </p:nvSpPr>
        <p:spPr>
          <a:xfrm>
            <a:off x="979560" y="351468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1e4ab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Programska aktivnost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16"/>
          <p:cNvSpPr/>
          <p:nvPr/>
        </p:nvSpPr>
        <p:spPr>
          <a:xfrm>
            <a:off x="979560" y="4211640"/>
            <a:ext cx="2952720" cy="544680"/>
          </a:xfrm>
          <a:prstGeom prst="roundRect">
            <a:avLst>
              <a:gd name="adj" fmla="val 16667"/>
            </a:avLst>
          </a:prstGeom>
          <a:solidFill>
            <a:srgbClr val="1e4ab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Programska aktivnost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17"/>
          <p:cNvSpPr/>
          <p:nvPr/>
        </p:nvSpPr>
        <p:spPr>
          <a:xfrm>
            <a:off x="979560" y="4924440"/>
            <a:ext cx="2952720" cy="544320"/>
          </a:xfrm>
          <a:prstGeom prst="roundRect">
            <a:avLst>
              <a:gd name="adj" fmla="val 16667"/>
            </a:avLst>
          </a:prstGeom>
          <a:solidFill>
            <a:srgbClr val="1e4ab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Projekat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8"/>
          <p:cNvSpPr/>
          <p:nvPr/>
        </p:nvSpPr>
        <p:spPr>
          <a:xfrm>
            <a:off x="5408640" y="3514680"/>
            <a:ext cx="2951280" cy="544680"/>
          </a:xfrm>
          <a:prstGeom prst="roundRect">
            <a:avLst>
              <a:gd name="adj" fmla="val 16667"/>
            </a:avLst>
          </a:prstGeom>
          <a:solidFill>
            <a:srgbClr val="1e4ab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Programska aktivnost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ounded Rectangle 19"/>
          <p:cNvSpPr/>
          <p:nvPr/>
        </p:nvSpPr>
        <p:spPr>
          <a:xfrm>
            <a:off x="5413320" y="4379760"/>
            <a:ext cx="2951280" cy="544680"/>
          </a:xfrm>
          <a:prstGeom prst="roundRect">
            <a:avLst>
              <a:gd name="adj" fmla="val 16667"/>
            </a:avLst>
          </a:prstGeom>
          <a:solidFill>
            <a:srgbClr val="1e4abd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Projekat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 ZAJEDNIČKOG 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“U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napređenje i zaštita ljudskih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i manjinskih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rava i sloboda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ske aktivnosti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Unapređenje položaja Roma i pružanje pomoći migrantima </a:t>
            </a:r>
            <a:br>
              <a:rPr sz="2000"/>
            </a:b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(Kancelarija za ljudska i manjinska pr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Delotvorno suzbijanje i zaštita od diskriminacije 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(Poverenik za zaštitu ravnoprav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odrška radu nacionalnih saveta nacionalnih manjina </a:t>
            </a:r>
            <a:br>
              <a:rPr sz="2000"/>
            </a:b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(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Kancelarija </a:t>
            </a:r>
            <a:r>
              <a:rPr b="0" lang="sv-SE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za ljudska i manjinska prava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)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Sprovođenje Opcionog protokola uz Konvenciju protiv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torture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i drugih surovih, neljudskih ili ponižavajućih kazni ili </a:t>
            </a:r>
            <a:br>
              <a:rPr sz="2000"/>
            </a:b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ostupaka (NPM) </a:t>
            </a:r>
            <a:br>
              <a:rPr sz="2000"/>
            </a:b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(Zaštitnik građ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 ZAJEDNIČKOG 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</a:t>
            </a:r>
            <a:r>
              <a:rPr b="0" lang="sr-Latn-RS" sz="17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: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“Borba protiv korupcije“</a:t>
            </a:r>
            <a:br>
              <a:rPr sz="1700"/>
            </a:br>
            <a:r>
              <a:rPr b="0" i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 </a:t>
            </a:r>
            <a:r>
              <a:rPr b="0" i="1" lang="vi-VN" sz="17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ske aktivnosti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Kontrola imovine funkcionera i finansiranja političkih subjekata </a:t>
            </a:r>
            <a:br>
              <a:rPr sz="1700"/>
            </a:b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Agencija za borbu protiv korupcij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Stručna podrška Vladi u borbi protiv korupcije 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</a:t>
            </a:r>
            <a:r>
              <a:rPr b="0" lang="pl-PL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Savet za borbu protiv korupcije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Finansiranje političkih aktivnosti  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Ministarstvo pravde)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 </a:t>
            </a:r>
            <a:r>
              <a:rPr b="0" i="1" lang="sr-Latn-RS" sz="17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jekat: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Prevencija i borba protiv korupcije u oblasti pravosuđa </a:t>
            </a:r>
            <a:br>
              <a:rPr sz="1700"/>
            </a:b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Ministarstvo pravde)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br>
              <a:rPr sz="1700"/>
            </a:br>
            <a:r>
              <a:rPr b="0" lang="sr-Latn-RS" sz="17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</a:t>
            </a:r>
            <a:r>
              <a:rPr b="0" i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: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’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’</a:t>
            </a: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Upravljanje finansijskim i fiskalnim sistemom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’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 </a:t>
            </a:r>
            <a:r>
              <a:rPr b="0" i="1" lang="vi-VN" sz="17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ske aktivnosti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Priprema i analiza budžeta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Ministarstvo finansija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Revizija sistema upravljanja sredstvima EU </a:t>
            </a:r>
            <a:br>
              <a:rPr sz="1700"/>
            </a:b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Kancelarija za reviziju sistema upravljanja sredstvima EU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Trezorsko poslovanje</a:t>
            </a:r>
            <a:r>
              <a:rPr b="1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(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Uprava za trezor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  <a:ea typeface="Calibri"/>
              </a:rPr>
              <a:t>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LISTA SEKTO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04920" y="1600200"/>
          <a:ext cx="4267080" cy="51786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97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. 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Poljoprivreda i ruralni razvoj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7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2. Nauka, tehnološki razvoj i inovacij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7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3. Spoljni poslov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7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4. Zaštita životne sredi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936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5. Energetika, mineralne sirovine i rudarst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01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6. Opšte usluge javne upra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936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7. Saobraćaj i saobraćajna infrastruktu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8. Tržište ra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01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9. Socijalna zašti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0. Ljudska prava i građansko društ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01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1. Urbanizam i prostorno planiranj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88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2. Kultura, komunikacije i medij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4724280" y="1600200"/>
          <a:ext cx="4267440" cy="5105520"/>
        </p:xfrm>
        <a:graphic>
          <a:graphicData uri="http://schemas.openxmlformats.org/drawingml/2006/table">
            <a:tbl>
              <a:tblPr/>
              <a:tblGrid>
                <a:gridCol w="4267440"/>
              </a:tblGrid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3. Sport i omlad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4. Javna bezbedno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5. Ekonomska i razvojna politi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6. Sudstvo i pravni siste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7. Odbra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8. Zdravst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19. Vere i dijaspora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20. Obrazovanj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21. Politički sistem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22. Servisiranje javnog du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23. Finansijski i fisklani siste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953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77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 (Body)"/>
                          <a:ea typeface="Calibri"/>
                        </a:rPr>
                        <a:t>24. Intervencijski programi i rezer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ŠIFRIRANJ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Calibri (Body)"/>
              </a:rPr>
              <a:t>Šifru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 (Body)"/>
              </a:rPr>
              <a:t>P</a:t>
            </a:r>
            <a:r>
              <a:rPr b="0" i="1" lang="vi-VN" sz="2000" spc="-1" strike="noStrike">
                <a:solidFill>
                  <a:srgbClr val="000000"/>
                </a:solidFill>
                <a:latin typeface="Calibri (Body)"/>
              </a:rPr>
              <a:t>rograma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 (Body)"/>
              </a:rPr>
              <a:t>, Programske aktivnosti i Projekta</a:t>
            </a:r>
            <a:r>
              <a:rPr b="0" i="1" lang="vi-VN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korisnika budžeta na centralnom nivou određuje ministarstvo nadležno za poslove finansi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Programi u budžetu APV se utvrđuju u skladu sa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odgovarajućim programima u budžetu Republike Srb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imer</a:t>
            </a:r>
            <a:r>
              <a:rPr b="0" lang="sr-Latn-RS" sz="2400" spc="-1" strike="noStrike">
                <a:solidFill>
                  <a:srgbClr val="000000"/>
                </a:solidFill>
                <a:latin typeface="Calibri (Body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Sektor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2000" spc="-1" strike="noStrike">
                <a:solidFill>
                  <a:srgbClr val="ff0000"/>
                </a:solidFill>
                <a:latin typeface="Calibri (Body)"/>
              </a:rPr>
              <a:t>12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Kultura, komunikacije i med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Program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1800" spc="-1" strike="noStrike">
                <a:solidFill>
                  <a:srgbClr val="ff0000"/>
                </a:solidFill>
                <a:latin typeface="Calibri (Body)"/>
              </a:rPr>
              <a:t>12</a:t>
            </a:r>
            <a:r>
              <a:rPr b="0" lang="sr-Latn-RS" sz="1800" spc="-1" strike="noStrike">
                <a:solidFill>
                  <a:srgbClr val="92d050"/>
                </a:solidFill>
                <a:latin typeface="Calibri (Body)"/>
              </a:rPr>
              <a:t>01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0" lang="nn-NO" sz="1800" spc="-1" strike="noStrike">
                <a:solidFill>
                  <a:srgbClr val="000000"/>
                </a:solidFill>
                <a:latin typeface="Calibri (Body)"/>
              </a:rPr>
              <a:t>Uređenje sistema u oblasti kulture i javnog informis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Calibri (Body)"/>
              </a:rPr>
              <a:t>Program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1800" spc="-1" strike="noStrike">
                <a:solidFill>
                  <a:srgbClr val="ff0000"/>
                </a:solidFill>
                <a:latin typeface="Calibri (Body)"/>
              </a:rPr>
              <a:t>12</a:t>
            </a:r>
            <a:r>
              <a:rPr b="0" lang="vi-VN" sz="1800" spc="-1" strike="noStrike">
                <a:solidFill>
                  <a:srgbClr val="92d050"/>
                </a:solidFill>
                <a:latin typeface="Calibri (Body)"/>
              </a:rPr>
              <a:t>02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: Zaštita i očuvanje kulturne baš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Calibri (Body)"/>
              </a:rPr>
              <a:t>Programska aktivnost </a:t>
            </a:r>
            <a:r>
              <a:rPr b="0" lang="vi-VN" sz="1600" spc="-1" strike="noStrike">
                <a:solidFill>
                  <a:srgbClr val="ff0000"/>
                </a:solidFill>
                <a:latin typeface="Calibri (Body)"/>
              </a:rPr>
              <a:t>12</a:t>
            </a:r>
            <a:r>
              <a:rPr b="0" lang="vi-VN" sz="1600" spc="-1" strike="noStrike">
                <a:solidFill>
                  <a:srgbClr val="92d050"/>
                </a:solidFill>
                <a:latin typeface="Calibri (Body)"/>
              </a:rPr>
              <a:t>02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1600" spc="-1" strike="noStrike">
                <a:solidFill>
                  <a:srgbClr val="262673"/>
                </a:solidFill>
                <a:latin typeface="Calibri (Body)"/>
              </a:rPr>
              <a:t>1</a:t>
            </a:r>
            <a:r>
              <a:rPr b="0" lang="vi-VN" sz="1600" spc="-1" strike="noStrike">
                <a:solidFill>
                  <a:srgbClr val="262673"/>
                </a:solidFill>
                <a:latin typeface="Calibri (Body)"/>
              </a:rPr>
              <a:t>001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: Nepokretno i arheološko nasleđ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Calibri (Body)"/>
              </a:rPr>
              <a:t>Programska aktivnost </a:t>
            </a:r>
            <a:r>
              <a:rPr b="0" lang="vi-VN" sz="1600" spc="-1" strike="noStrike">
                <a:solidFill>
                  <a:srgbClr val="ff0000"/>
                </a:solidFill>
                <a:latin typeface="Calibri (Body)"/>
              </a:rPr>
              <a:t>12</a:t>
            </a:r>
            <a:r>
              <a:rPr b="0" lang="vi-VN" sz="1600" spc="-1" strike="noStrike">
                <a:solidFill>
                  <a:srgbClr val="92d050"/>
                </a:solidFill>
                <a:latin typeface="Calibri (Body)"/>
              </a:rPr>
              <a:t>02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1600" spc="-1" strike="noStrike">
                <a:solidFill>
                  <a:srgbClr val="262673"/>
                </a:solidFill>
                <a:latin typeface="Calibri (Body)"/>
              </a:rPr>
              <a:t>1</a:t>
            </a:r>
            <a:r>
              <a:rPr b="0" lang="vi-VN" sz="1600" spc="-1" strike="noStrike">
                <a:solidFill>
                  <a:srgbClr val="262673"/>
                </a:solidFill>
                <a:latin typeface="Calibri (Body)"/>
              </a:rPr>
              <a:t>002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: Bibliotečko-informacione delatn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5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000000"/>
                </a:solidFill>
                <a:latin typeface="Calibri (Body)"/>
              </a:rPr>
              <a:t>Projekat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1600" spc="-1" strike="noStrike">
                <a:solidFill>
                  <a:srgbClr val="ff0000"/>
                </a:solidFill>
                <a:latin typeface="Calibri (Body)"/>
              </a:rPr>
              <a:t>12</a:t>
            </a:r>
            <a:r>
              <a:rPr b="0" lang="vi-VN" sz="1600" spc="-1" strike="noStrike">
                <a:solidFill>
                  <a:srgbClr val="92d050"/>
                </a:solidFill>
                <a:latin typeface="Calibri (Body)"/>
              </a:rPr>
              <a:t>02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1600" spc="-1" strike="noStrike">
                <a:solidFill>
                  <a:srgbClr val="262673"/>
                </a:solidFill>
                <a:latin typeface="Calibri (Body)"/>
              </a:rPr>
              <a:t>4</a:t>
            </a:r>
            <a:r>
              <a:rPr b="0" lang="vi-VN" sz="1600" spc="-1" strike="noStrike">
                <a:solidFill>
                  <a:srgbClr val="262673"/>
                </a:solidFill>
                <a:latin typeface="Calibri (Body)"/>
              </a:rPr>
              <a:t>003</a:t>
            </a:r>
            <a:r>
              <a:rPr b="0" lang="vi-VN" sz="1600" spc="-1" strike="noStrike">
                <a:solidFill>
                  <a:srgbClr val="000000"/>
                </a:solidFill>
                <a:latin typeface="Calibri (Body)"/>
              </a:rPr>
              <a:t>: Obnova manastira Hiland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itanja u vezi sa ovim delo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SVRH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335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Svrha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PROGRAMA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/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PROGRAMSKE AKTIVNOSTI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/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PROJEKTA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KRATKA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kratak opis namene</a:t>
            </a: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NIJE SPECIFIČNA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(za razliku od cilja) i ne mora da bude direktno merlj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TRAJNA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- važi za sve vreme sprovođ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Prim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  <a:ea typeface="Calibri"/>
              </a:rPr>
              <a:t>: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Calibri (Body)"/>
                <a:ea typeface="Calibri"/>
              </a:rPr>
              <a:t>’’Uređenje i nadzor u oblasti građevinarstva i građ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  <a:ea typeface="Calibri"/>
              </a:rPr>
              <a:t>. </a:t>
            </a:r>
            <a:r>
              <a:rPr b="1" lang="vi-VN" sz="1800" spc="-1" strike="noStrike">
                <a:solidFill>
                  <a:srgbClr val="000000"/>
                </a:solidFill>
                <a:latin typeface="Calibri (Body)"/>
                <a:ea typeface="Calibri"/>
              </a:rPr>
              <a:t>zemljišta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Svrha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Uspostavljanje efikasnog sistema u oblasti građevinarstva i građevinskog zemljišta koji predstavlja preduslov za privlačenje i realizaciju investicija u oblasti građevina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Programska aktivnost: 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’’Izdavanje lokacijskih dozvola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Svrha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Omogućavanje realizacije urbanističkih i prostornih planova i programa razvoja JLS i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Projekat: 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’’Izgradnja socijalnih stanova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Svrha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Povećanje obima i raznovrsnosti stambene ponude za domaćinstva sa nižim i srednjim primanj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 SVR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Program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 (Body)"/>
              </a:rPr>
              <a:t>„Unapređenje saradnje drža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Calibri (Body)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alibri (Body)"/>
              </a:rPr>
              <a:t>sa crkavama i verskim zajednicam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 (Body)"/>
              </a:rPr>
              <a:t>Svrha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    </a:t>
            </a:r>
            <a:r>
              <a:rPr b="0" lang="vi-VN" sz="2200" spc="-1" strike="noStrike">
                <a:solidFill>
                  <a:srgbClr val="000000"/>
                </a:solidFill>
                <a:latin typeface="Calibri (Body)"/>
              </a:rPr>
              <a:t>Afirmacija i razvoj slobode veroispovesti, unapređenje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Calibri (Body)"/>
              </a:rPr>
              <a:t>saradnje države sa crkvama i verskim zajednicama, podsticanje verske kulture, pomoć u očuvanju i razvoju duhovne i nacionalne samobitnosti srpskog naroda izvan Republike Srbije, preduzimanje afirmativnih mera države u cilju ravnopravnog tretmana svih crkava i verskih zajednica i razvijanja međuverske tolerancije, saradnje i dijalo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Cloud Callout 3"/>
          <p:cNvSpPr/>
          <p:nvPr/>
        </p:nvSpPr>
        <p:spPr>
          <a:xfrm>
            <a:off x="6400800" y="1600200"/>
            <a:ext cx="228600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4a7ebb"/>
            </a:solidFill>
            <a:miter/>
          </a:ln>
          <a:effectLst>
            <a:outerShdw dist="12600" dir="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ugačk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</a:t>
            </a:r>
            <a:r>
              <a:rPr b="1" lang="sr-Latn-R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Nedovoljno opš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 SVRHE I OPI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ogram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: ’’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Uređenje i nadzor u oblasti poljoprivrede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Svrha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Formiranje stimulativnog poslovnog ambijenta za razvoj poljoprivrede kroz unapređenje zakonodavnog okvira i poljoprivredne politike, kao i nadzor nad njihovom prime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Opis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U okviru ovog Programa sprovode se sledeće nadležnosti Ministarstva: analiza proizvodnje i tržišta poljoprivrednih i prehrambenih proizvoda; izrada propisa iz oblasti poljoprivredne politike i njihovo usklađivanje sa propisima EU i standardima međunarodnih organizacija i sporazuma; praćenje i usmeravanje sprovođenja obaveza koje proističu iz procesa pristupanja EU, STO i  drugim međunarodnim organizacijama; izrada strategije i politike razvoja poljoprivrede i prehrambene industrije; predlaganje, praćenje i analiza mera poljoprivredne politike i ruralnog razvoja; inspekcijski nadzor nad primenom zakona i drugih propisa u oblastima zaštite,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uređenja i korišćenja poljoprivrednog zemljišta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,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kontrolu podsticajnih sredstava u poljoprivredi, organsku proizvodnju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</a:rPr>
              <a:t>i stočarstvo, bezbednost hrane biljnog i mešovitog porekla i kontrolu obrađivača duvana i proizvođača duvanskih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HIJERARHIJA CILJE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Content Placeholder 3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7"/>
          <p:cNvSpPr/>
          <p:nvPr/>
        </p:nvSpPr>
        <p:spPr>
          <a:xfrm>
            <a:off x="316080" y="1066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Š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TA ZNA</a:t>
            </a: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Č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I “DOBAR” PROGRAMSKI BUD</a:t>
            </a: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E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887400" y="1752480"/>
            <a:ext cx="74674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343080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Logi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na i jednostavna hijerarhij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Povezanost programske strukture sa ciljevima od zna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aja za dru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tvo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1) 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koji su 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konkretni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2) 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čije je 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ostvarenje mo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e 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merit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Kori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šć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enje adekvatnih indikatora u</a:t>
            </a: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alibri (Body)"/>
              </a:rPr>
              <a:t>ink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* NIJE UVEK MOGUĆE POSTAVITI OVAKVE CILJEVE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 – REALNA O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EKIVANJ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CILJEVI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:</a:t>
            </a: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KRAJNJI ISHODI ILI IZLAZNI REZULTAT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CILJ PROGRAMA =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KRAJNJI ISHOD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tj. specifični društveni ili ekonomski efekat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* kad god je to moguć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CILJ PROGRAMSKIH AKTIVNOSTI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PROJEKATA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je najčešće neposredni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IZLAZNI REZULTAT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tj.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uslug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koj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budžetski korisnik pruža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* * cilj programske aktivnosti i projekta može se odnositi i na 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    krajnji is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C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ILJ PROGRAMA – KRAJNJI IS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440" y="16761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Realizacija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cilja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Programa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nije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uvek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od direktnom kontrolom bud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etkog korisnika, već može biti pod uticajem i drugih faktora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i subjek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Najčešće se izvodi iz strateških dokumanata, srednjoročnih i razvojnih planov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imer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Smanjenje stope kriminala za 10% do 2016. u odnosu na 2010.god.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(Program „Prevencija kriminala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Unapređenje kvaliteta podzemnih i površinskih voda za 10% do 2016. u odnosu na 2013.god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(Program „Zaštita podzemnih i površinskih voda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  <a:ea typeface="Calibri"/>
              </a:rPr>
              <a:t>PRIMERI CILJEVA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: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’’Podsticaji poljoprivrednoj proizvodnji i ruralnom razvoju’’ 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(Ministarstvo poljoprivrede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040" indent="-25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1: 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Stabilizacija dohotka u poljoprivred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040" indent="-25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2: 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Unapređe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nje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finansiranj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a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poljoprivrede i ruralnog razvoja i upravljanj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a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rizicim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040" indent="-25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3: 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Unapređenje stanja fizičkih resursa</a:t>
            </a:r>
            <a:br>
              <a:rPr sz="1900"/>
            </a:br>
            <a:r>
              <a:rPr b="0" lang="sr-Latn-RS" sz="19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:</a:t>
            </a:r>
            <a:r>
              <a:rPr b="0" i="1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1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’’</a:t>
            </a:r>
            <a:r>
              <a:rPr b="1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Unapređenje i zaštita ljudskih prava i sloboda i prevencija torture</a:t>
            </a:r>
            <a:r>
              <a:rPr b="1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’’</a:t>
            </a:r>
            <a:r>
              <a:rPr b="1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(više budžetskih korisnika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040" indent="-25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1: Povećanje nivoa zaštite ljudskih i manjinskih prava pred organima uprave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040" indent="-25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2: Unapređenje institucionalnog i zakonodavnog okvira kojim se reguliše oblast ljudskih prava i slob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040" indent="-25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3: Unapređenje odgovornosti, efikasnosti i transparentnosti u radu organa javne vla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  <a:ea typeface="Calibri"/>
              </a:rPr>
              <a:t>PRIMERI CILJEVA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 (Body)"/>
              </a:rPr>
              <a:t>Program:</a:t>
            </a:r>
            <a:r>
              <a:rPr b="1" lang="sr-Latn-CS" sz="19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alibri (Body)"/>
              </a:rPr>
              <a:t>„Unapređenje saradnje države sa crkavama i verskim zajednicama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Calibri (Body)"/>
              </a:rPr>
              <a:t>Cilj</a:t>
            </a:r>
            <a:r>
              <a:rPr b="0" lang="sr-Latn-CS" sz="1900" spc="-1" strike="noStrike">
                <a:solidFill>
                  <a:srgbClr val="000000"/>
                </a:solidFill>
                <a:latin typeface="Calibri (Body)"/>
              </a:rPr>
              <a:t>: Povećanje stepena verske tolerancije u odnosu na manjinske verske zajednice u zemlji i regionu do kraja 2016. u odnosu na 2013. godinu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Calibri (Body)"/>
              </a:rPr>
              <a:t>Program: </a:t>
            </a:r>
            <a:r>
              <a:rPr b="1" lang="hr-HR" sz="1900" spc="-1" strike="noStrike">
                <a:solidFill>
                  <a:srgbClr val="000000"/>
                </a:solidFill>
                <a:latin typeface="Calibri (Body)"/>
              </a:rPr>
              <a:t>„Razvoj šumstva i lovstva’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</a:rPr>
              <a:t>Cilj 1: Obezbeđenje regulatornog, institucionalnog i ekonomskog okvira za sprovođenje održivog gazdovanja šumama i lovišti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 (Body)"/>
              </a:rPr>
              <a:t>Cilj 2: </a:t>
            </a:r>
            <a:r>
              <a:rPr b="0" lang="vi-VN" sz="1900" spc="-1" strike="noStrike">
                <a:solidFill>
                  <a:srgbClr val="000000"/>
                </a:solidFill>
                <a:latin typeface="Calibri (Body)"/>
              </a:rPr>
              <a:t>Unapređenje, zaštita i održivo korišćenje šuma u 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: </a:t>
            </a:r>
            <a:r>
              <a:rPr b="1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„</a:t>
            </a:r>
            <a:r>
              <a:rPr b="1" lang="vi-VN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Državni premer, katastar i upravljanje geoprostornim podacima na nacionalnom nivou</a:t>
            </a:r>
            <a:r>
              <a:rPr b="1" lang="sr-Latn-RS" sz="1900" spc="-1" strike="noStrike">
                <a:solidFill>
                  <a:srgbClr val="000000"/>
                </a:solidFill>
                <a:latin typeface="Calibri (Body)"/>
                <a:ea typeface="Calibri"/>
              </a:rPr>
              <a:t>’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Calibri (Body)"/>
              </a:rPr>
              <a:t>Cilj 1: Unapređenje javnog servisa kroz olakšanu razmenu geoprostornih podataka putem geoportal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900" spc="-1" strike="noStrike">
                <a:solidFill>
                  <a:srgbClr val="000000"/>
                </a:solidFill>
                <a:latin typeface="Calibri (Body)"/>
              </a:rPr>
              <a:t>Cilj 2: Uspostavljanje i održavanje topografsko-kartografske baze podata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C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ILJEVI PROGRAMSKE AKTIVNOSTI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Većinu izlaznih rezultata predstavljaju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usluge koje budžetski korisnik pru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Ali se cilj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može odnositi i na krajnji ishod koji se ostvaruje realizacijom programske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imeri ciljeva 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Programski aktivnosti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Smanj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enje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 broj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 pljački u centrima gradova za 5% do 2015. u odnosu na 2010.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god</a:t>
            </a:r>
            <a:r>
              <a:rPr b="1" lang="en-US" sz="3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sr-Latn-RS" sz="300" spc="-1" strike="noStrike">
                <a:solidFill>
                  <a:srgbClr val="000000"/>
                </a:solidFill>
                <a:latin typeface="Calibri (Body)"/>
              </a:rPr>
              <a:t> 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Prevencija blažih krivičnih dela“)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- krajnji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 is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oveća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nje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 broj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 časova patroliranja pripadnika policije u centrima gradova za 10% u 2015. u odnosu na 2010.  i održavati nivo konstantnim do 2015.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(„Prevencija blažih krivičnih dela“) - izlazni rez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Povećanje broja vakcinisane dece protiv tuberkoloze za 10%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(’’Preventivna zdravstvena zaštita’’)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- izlazni rez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CILJEVA PROGRAMSKE AKTIVNOST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ogramska aktivnost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Mere ruralnog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258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1: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Unapređenje konkurentnosti i dostizanje standarda kvaliteta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u stočarstvu i ruralnoj proizvod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258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2: Održivost ruralnog razvoja kroz podsticanje organske proizvo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25884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3: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Održivost ruralnog razvoja kroz diversifikaciju ekonomske aktivnosti na s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 (Body)"/>
                <a:ea typeface="Calibri"/>
              </a:rPr>
              <a:t>Programska aktivnost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: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Uređenje zakonodavstva, institucija i politike u oblasti poljoprivrede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i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 ruralnog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258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1: Unapredjenje zakonodavnog i strateškog okv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258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2: Modernizacija i prilagođavanje instit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258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Cilj 3: Pospešivanje bilateralne i mult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i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lateralne sardanje RS u oblasti poljopriv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C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ILJEVI PROJEK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Cilj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može se odnositi na neposredni izlazni rezultat ali i na krajnji ishod koji se ostvaruje realizacijom projek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Prim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Digitalizova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nje 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50% bibliotečkog sadržaja do 201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.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god.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(„Elektronski pristup bibliotekama“)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-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izlazni rez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Povećan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je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fond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socijalnih stanova za izdavanje u zakup domaćinstvima sa niskim primanjima za još 550 do kraja 2017. god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.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(Projekat socijalnog stanovanj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Poveća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nje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kapacitet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oridora X za 10% do 2016. u poređenju sa 2010.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god.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(„Proširenje koridora X”)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is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Poveća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nje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kapacitet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postrojenja za preradu otpadne vode na 60.000 litara na sat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(„Izgradnja prečišćivača otpadnih voda u Beogradu”)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-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izlazni rez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Unapređenje kvaliteta podataka katastra nepokretnosti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(Projekat upravljanja nepokretnostima u Srbi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CILJEVA PROJEK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 (Body)"/>
              </a:rPr>
              <a:t>Projekat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</a:rPr>
              <a:t>Izgradnja hangara i pratećih objekata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2000"/>
            </a:b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              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(Avio služba Vlad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Cilj 1: Obezbeđenje infrastrukturnih kapaciteta potrebnih za rad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        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Avio slu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Cilj 2: Smanjenje troškova linijskog održavanja i zimske 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        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eksploatacije avi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</a:rPr>
              <a:t>Cilj 3: Povećanje bezb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  <a:ea typeface="MS PGothic"/>
              </a:rPr>
              <a:t>KAKO MERIMO OSTVARENJE CILJE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09120" y="1676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Indikatori učinka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(instrument nefinansijskog praćenja implementacije aktivnosti i realizacije ciljeva budžetskih korisn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Uspostavljaju se na nivou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Programa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Programsk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 aktivnost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Projekt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Lako merljiv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, relevanti, 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dostižni,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ažurni i da koriste menadžerima programa u upravljaju učin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 (Body)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rste indikato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indikator ishoda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indikator izlaznog rezul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Definisa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baznu (trenutnu vred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ciljne vrednosti za naredne tri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izvor verifikacije vrednosti indik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NDIKATOR ISHO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Indikator ishoda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uža informaciju o krajnjem rezultatu (dostignuću) 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Programa, Programske aktivnosti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ili 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Projekta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, tj. ostvarenoj društvenoj ili ekonomskoj prom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Primeri indikatora isho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Stopa kriminala (broj krivičnih dela na 1000 stanovn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% usklađenosti sa međunarodnim standardima kvaliteta v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Učešće BDV u poljoprivredi u B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% smanjenja zavisnosti dohotka poljoprivrednih domaćinstava od direktnih podsticaja drž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3"/>
          <p:cNvSpPr/>
          <p:nvPr/>
        </p:nvSpPr>
        <p:spPr>
          <a:xfrm>
            <a:off x="0" y="2516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buClr>
                <a:srgbClr val="1e4a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4"/>
          <p:cNvGrpSpPr/>
          <p:nvPr/>
        </p:nvGrpSpPr>
        <p:grpSpPr>
          <a:xfrm>
            <a:off x="1101600" y="1066680"/>
            <a:ext cx="6553440" cy="785880"/>
            <a:chOff x="1101600" y="1066680"/>
            <a:chExt cx="6553440" cy="785880"/>
          </a:xfrm>
        </p:grpSpPr>
        <p:sp>
          <p:nvSpPr>
            <p:cNvPr id="653" name="Rectangle 5"/>
            <p:cNvSpPr/>
            <p:nvPr/>
          </p:nvSpPr>
          <p:spPr>
            <a:xfrm>
              <a:off x="1101600" y="1066680"/>
              <a:ext cx="6553440" cy="7858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1101600" y="1066680"/>
              <a:ext cx="6553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 (Body)"/>
                  <a:ea typeface="Arial"/>
                </a:rPr>
                <a:t>PROGRAMSKA STRUKTURA </a:t>
              </a:r>
              <a:br>
                <a:rPr sz="2000"/>
              </a:br>
              <a:r>
                <a:rPr b="1" lang="sr-Latn-RS" sz="2000" spc="-1" strike="noStrike">
                  <a:solidFill>
                    <a:srgbClr val="000000"/>
                  </a:solidFill>
                  <a:latin typeface="Calibri (Body)"/>
                  <a:ea typeface="Arial"/>
                </a:rPr>
                <a:t>KORISNIKA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 (Body)"/>
                  <a:ea typeface="Arial"/>
                </a:rPr>
                <a:t>BUDŽETSK</a:t>
              </a:r>
              <a:r>
                <a:rPr b="1" lang="sr-Latn-RS" sz="2000" spc="-1" strike="noStrike">
                  <a:solidFill>
                    <a:srgbClr val="000000"/>
                  </a:solidFill>
                  <a:latin typeface="Calibri (Body)"/>
                  <a:ea typeface="Arial"/>
                </a:rPr>
                <a:t>IH SREDSTAV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Straight Connector 4"/>
          <p:cNvSpPr/>
          <p:nvPr/>
        </p:nvSpPr>
        <p:spPr>
          <a:xfrm>
            <a:off x="3208320" y="2782800"/>
            <a:ext cx="549360" cy="1150920"/>
          </a:xfrm>
          <a:custGeom>
            <a:avLst/>
            <a:gdLst>
              <a:gd name="textAreaLeft" fmla="*/ 0 w 549360"/>
              <a:gd name="textAreaRight" fmla="*/ 549720 w 549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549275" h="1150937">
                <a:moveTo>
                  <a:pt x="0" y="0"/>
                </a:moveTo>
                <a:lnTo>
                  <a:pt x="0" y="1150941"/>
                </a:lnTo>
                <a:lnTo>
                  <a:pt x="548876" y="1150941"/>
                </a:lnTo>
              </a:path>
            </a:pathLst>
          </a:custGeom>
          <a:noFill/>
          <a:ln w="25560">
            <a:solidFill>
              <a:srgbClr val="a9cb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5"/>
          <p:cNvSpPr/>
          <p:nvPr/>
        </p:nvSpPr>
        <p:spPr>
          <a:xfrm>
            <a:off x="3208320" y="2738520"/>
            <a:ext cx="549360" cy="503280"/>
          </a:xfrm>
          <a:custGeom>
            <a:avLst/>
            <a:gdLst>
              <a:gd name="textAreaLeft" fmla="*/ 0 w 549360"/>
              <a:gd name="textAreaRight" fmla="*/ 549720 w 549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49275" h="503237">
                <a:moveTo>
                  <a:pt x="0" y="0"/>
                </a:moveTo>
                <a:lnTo>
                  <a:pt x="0" y="503174"/>
                </a:lnTo>
                <a:lnTo>
                  <a:pt x="548876" y="503174"/>
                </a:lnTo>
              </a:path>
            </a:pathLst>
          </a:custGeom>
          <a:noFill/>
          <a:ln w="25560">
            <a:solidFill>
              <a:srgbClr val="a9cb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29"/>
          <p:cNvGrpSpPr/>
          <p:nvPr/>
        </p:nvGrpSpPr>
        <p:grpSpPr>
          <a:xfrm>
            <a:off x="2209680" y="2057400"/>
            <a:ext cx="4751640" cy="681120"/>
            <a:chOff x="2209680" y="2057400"/>
            <a:chExt cx="4751640" cy="681120"/>
          </a:xfrm>
        </p:grpSpPr>
        <p:sp>
          <p:nvSpPr>
            <p:cNvPr id="658" name="Rectangle 30"/>
            <p:cNvSpPr/>
            <p:nvPr/>
          </p:nvSpPr>
          <p:spPr>
            <a:xfrm>
              <a:off x="2209680" y="2057400"/>
              <a:ext cx="4751640" cy="6811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31"/>
            <p:cNvSpPr/>
            <p:nvPr/>
          </p:nvSpPr>
          <p:spPr>
            <a:xfrm>
              <a:off x="2209680" y="2057400"/>
              <a:ext cx="47516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 (Body)"/>
                </a:rPr>
                <a:t>Program 1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32"/>
          <p:cNvGrpSpPr/>
          <p:nvPr/>
        </p:nvGrpSpPr>
        <p:grpSpPr>
          <a:xfrm>
            <a:off x="3746520" y="3011400"/>
            <a:ext cx="3203640" cy="487440"/>
            <a:chOff x="3746520" y="3011400"/>
            <a:chExt cx="3203640" cy="487440"/>
          </a:xfrm>
        </p:grpSpPr>
        <p:sp>
          <p:nvSpPr>
            <p:cNvPr id="661" name="Rectangle 33"/>
            <p:cNvSpPr/>
            <p:nvPr/>
          </p:nvSpPr>
          <p:spPr>
            <a:xfrm>
              <a:off x="3746520" y="3011400"/>
              <a:ext cx="3203640" cy="4874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4"/>
            <p:cNvSpPr/>
            <p:nvPr/>
          </p:nvSpPr>
          <p:spPr>
            <a:xfrm>
              <a:off x="3746520" y="3011400"/>
              <a:ext cx="320364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 (Body)"/>
                </a:rPr>
                <a:t>Programska aktivnost 1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35"/>
          <p:cNvGrpSpPr/>
          <p:nvPr/>
        </p:nvGrpSpPr>
        <p:grpSpPr>
          <a:xfrm>
            <a:off x="3757680" y="3700440"/>
            <a:ext cx="3203640" cy="527040"/>
            <a:chOff x="3757680" y="3700440"/>
            <a:chExt cx="3203640" cy="527040"/>
          </a:xfrm>
        </p:grpSpPr>
        <p:sp>
          <p:nvSpPr>
            <p:cNvPr id="664" name="Rectangle 36"/>
            <p:cNvSpPr/>
            <p:nvPr/>
          </p:nvSpPr>
          <p:spPr>
            <a:xfrm>
              <a:off x="3757680" y="3700440"/>
              <a:ext cx="3203640" cy="5270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37"/>
            <p:cNvSpPr/>
            <p:nvPr/>
          </p:nvSpPr>
          <p:spPr>
            <a:xfrm>
              <a:off x="3757680" y="3700440"/>
              <a:ext cx="32036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 (Body)"/>
                </a:rPr>
                <a:t>Programska aktivnost 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38"/>
          <p:cNvGrpSpPr/>
          <p:nvPr/>
        </p:nvGrpSpPr>
        <p:grpSpPr>
          <a:xfrm>
            <a:off x="2354400" y="5783400"/>
            <a:ext cx="4606920" cy="657000"/>
            <a:chOff x="2354400" y="5783400"/>
            <a:chExt cx="4606920" cy="657000"/>
          </a:xfrm>
        </p:grpSpPr>
        <p:sp>
          <p:nvSpPr>
            <p:cNvPr id="667" name="Rectangle 39"/>
            <p:cNvSpPr/>
            <p:nvPr/>
          </p:nvSpPr>
          <p:spPr>
            <a:xfrm>
              <a:off x="2354400" y="5783400"/>
              <a:ext cx="4606920" cy="657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0"/>
            <p:cNvSpPr/>
            <p:nvPr/>
          </p:nvSpPr>
          <p:spPr>
            <a:xfrm>
              <a:off x="2354400" y="5783400"/>
              <a:ext cx="46069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 (Body)"/>
                </a:rPr>
                <a:t>Program 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41"/>
          <p:cNvGrpSpPr/>
          <p:nvPr/>
        </p:nvGrpSpPr>
        <p:grpSpPr>
          <a:xfrm>
            <a:off x="3757680" y="4356000"/>
            <a:ext cx="3203640" cy="547920"/>
            <a:chOff x="3757680" y="4356000"/>
            <a:chExt cx="3203640" cy="547920"/>
          </a:xfrm>
        </p:grpSpPr>
        <p:sp>
          <p:nvSpPr>
            <p:cNvPr id="670" name="Rectangle 42"/>
            <p:cNvSpPr/>
            <p:nvPr/>
          </p:nvSpPr>
          <p:spPr>
            <a:xfrm>
              <a:off x="3757680" y="4419360"/>
              <a:ext cx="3203640" cy="4845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Calibri (Body)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 (Body)"/>
                </a:rPr>
                <a:t>Projekat 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3"/>
            <p:cNvSpPr/>
            <p:nvPr/>
          </p:nvSpPr>
          <p:spPr>
            <a:xfrm>
              <a:off x="3757680" y="4356000"/>
              <a:ext cx="3203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buClr>
                  <a:srgbClr val="1e4abd"/>
                </a:buClr>
                <a:buSzPct val="80000"/>
                <a:buFont typeface="Wingdings" charset="2"/>
                <a:buChar char="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44"/>
          <p:cNvGrpSpPr/>
          <p:nvPr/>
        </p:nvGrpSpPr>
        <p:grpSpPr>
          <a:xfrm>
            <a:off x="3757680" y="5030640"/>
            <a:ext cx="3192480" cy="648000"/>
            <a:chOff x="3757680" y="5030640"/>
            <a:chExt cx="3192480" cy="648000"/>
          </a:xfrm>
        </p:grpSpPr>
        <p:sp>
          <p:nvSpPr>
            <p:cNvPr id="673" name="Rectangle 45"/>
            <p:cNvSpPr/>
            <p:nvPr/>
          </p:nvSpPr>
          <p:spPr>
            <a:xfrm>
              <a:off x="3757680" y="5030640"/>
              <a:ext cx="3192480" cy="4845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Calibri (Body)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 (Body)"/>
                </a:rPr>
                <a:t>Projekat 2 (kapitalni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"/>
            <p:cNvSpPr/>
            <p:nvPr/>
          </p:nvSpPr>
          <p:spPr>
            <a:xfrm>
              <a:off x="3757680" y="5030640"/>
              <a:ext cx="31924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buClr>
                  <a:srgbClr val="1e4abd"/>
                </a:buClr>
                <a:buSzPct val="80000"/>
                <a:buFont typeface="Wingdings" charset="2"/>
                <a:buChar char="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Straight Connector 4"/>
          <p:cNvSpPr/>
          <p:nvPr/>
        </p:nvSpPr>
        <p:spPr>
          <a:xfrm>
            <a:off x="3208320" y="4133880"/>
            <a:ext cx="603360" cy="1793880"/>
          </a:xfrm>
          <a:custGeom>
            <a:avLst/>
            <a:gdLst>
              <a:gd name="textAreaLeft" fmla="*/ 0 w 603360"/>
              <a:gd name="textAreaRight" fmla="*/ 603720 w 60336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603250" h="1793875">
                <a:moveTo>
                  <a:pt x="0" y="0"/>
                </a:moveTo>
                <a:lnTo>
                  <a:pt x="0" y="1150941"/>
                </a:lnTo>
                <a:lnTo>
                  <a:pt x="548876" y="1150941"/>
                </a:lnTo>
              </a:path>
            </a:pathLst>
          </a:custGeom>
          <a:noFill/>
          <a:ln w="25560">
            <a:solidFill>
              <a:srgbClr val="a9cb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4"/>
          <p:cNvSpPr/>
          <p:nvPr/>
        </p:nvSpPr>
        <p:spPr>
          <a:xfrm>
            <a:off x="3208320" y="3459240"/>
            <a:ext cx="603360" cy="1793880"/>
          </a:xfrm>
          <a:custGeom>
            <a:avLst/>
            <a:gdLst>
              <a:gd name="textAreaLeft" fmla="*/ 0 w 603360"/>
              <a:gd name="textAreaRight" fmla="*/ 603720 w 60336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603250" h="1793875">
                <a:moveTo>
                  <a:pt x="0" y="0"/>
                </a:moveTo>
                <a:lnTo>
                  <a:pt x="0" y="1150941"/>
                </a:lnTo>
                <a:lnTo>
                  <a:pt x="548876" y="1150941"/>
                </a:lnTo>
              </a:path>
            </a:pathLst>
          </a:custGeom>
          <a:noFill/>
          <a:ln w="25560">
            <a:solidFill>
              <a:srgbClr val="a9cb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NDIKATORA ISHO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Broj incidenata na godišnjem nivou protiv manjinskih verskih zajednica u zeml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Broj incidenata na godišnjem nivou protiv Srpske pravoslavne crkve u regio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Rang brenda Srbije na relevantnoj rang l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Koeficijant pokrivenosti uvoza izvozom poljoprivrednih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ovršina teritorije Republike Srbije za koju je prikupljen osnovni topografski set podataka i izrađena državna topografska karta u razmeri 1:2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INDIKATORA ISHO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0880" y="17524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ogram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Podrška radu Vlade RS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Cilj: Bezbedno, blagovremeno, kontinuirano i kvalitetno pružanje usluga prevoza  vazduhopl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Indikator: Procenat realizovanih letova u odnosu na zahtev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ogramska aktivnost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Letačka operativ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Cilj: Obezbeđenje dovoljnog broja osposobljenih/obučenih po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Indikato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Odnos broja nerealizovanih letova usled nedovoljnog broja posada u odnosu na broj zahtevanih let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Broj realizovanih ob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 (Body)"/>
              </a:rPr>
              <a:t>Programska aktivnost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Tehnička operativa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Cilj: Održanje projektovanog nivoa pouzdanosti aviona iz flote Avio službe V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Indikator: Broj otkazanih letova u odnosu na broj realizovanih letova zbog tehničkih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NDIKATORI IZLAZNOG</a:t>
            </a: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Calibri (Body)"/>
              </a:rPr>
              <a:t>REZULT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Primeri indikatora izlaznog rezult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Kvantitet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Broj časova patrolir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Broj sp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ro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vedenih analiza v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Kvalitet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rosečno vreme između prijema pacijenta u bolnicu i pružanja zdravstvenih uslug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rosečno vreme obrade zahteva za izdavanje građevinske dozvo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% zadovoljnih primalaca javne usluge (na osnovu ank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Efik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Calibri (Body)"/>
              </a:rPr>
              <a:t>a</a:t>
            </a:r>
            <a:r>
              <a:rPr b="0" lang="sr-Latn-RS" sz="1800" spc="-1" strike="noStrike" u="sng">
                <a:solidFill>
                  <a:srgbClr val="000000"/>
                </a:solidFill>
                <a:uFillTx/>
                <a:latin typeface="Calibri (Body)"/>
              </a:rPr>
              <a:t>snost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ena po datoj vakcini (uključujući pružanje uslu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ena po obrađenom zahtevu za izdavanje građevinske doz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INDIKATORA IZLAZNOG REZULT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58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 (Body)"/>
              </a:rPr>
              <a:t>Kvantitet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Broj merenja na terenskim tačkama u seizmički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aktivnim obla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Broj dostupnih skupova i servisa geopodataka putem intern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 (Body)"/>
              </a:rPr>
              <a:t>Kvalitet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 (Body)"/>
              </a:rPr>
              <a:t>Dužina procedure za skladištenje i uništavanje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 (Body)"/>
              </a:rPr>
              <a:t>Efik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Calibri (Body)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 (Body)"/>
              </a:rPr>
              <a:t>snost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Cena uzorkovanja proizvoda po jedinici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 CILJEVA I INDIKAT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Programska aktivnost: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odsticanje aktivnosti na omasovljavanju dobrovoljnog davala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ta kr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Cilj: Dostizanje indeksa davala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š</a:t>
            </a: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tva od 40 davanja krvi na 1000 stanovnika u 201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6.god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 (Body)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 (Body)"/>
              </a:rPr>
              <a:t>Indikator ishoda: Indeks davala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</a:rPr>
              <a:t>š</a:t>
            </a:r>
            <a:r>
              <a:rPr b="0" lang="en-US" sz="1700" spc="-1" strike="noStrike">
                <a:solidFill>
                  <a:srgbClr val="000000"/>
                </a:solidFill>
                <a:latin typeface="Calibri (Body)"/>
              </a:rPr>
              <a:t>tva krvi (na 1000 stanovnik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 (Body)"/>
              </a:rPr>
              <a:t>Indikator izlaznog rezultata: Ukupan broj novih davalaca krv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ska aktivnost: 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Upravljanje nepokretnostima i vod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 (Body)"/>
              </a:rPr>
              <a:t>Cilj: </a:t>
            </a:r>
            <a:r>
              <a:rPr b="0" i="1" lang="vi-VN" sz="1800" spc="-1" strike="noStrike">
                <a:solidFill>
                  <a:srgbClr val="000000"/>
                </a:solidFill>
                <a:latin typeface="Calibri (Body)"/>
              </a:rPr>
              <a:t>Unapređenje pružanja usluga u postupku održavanja katastra nepokretnosti, katastra vodova i adresnog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Calibri (Body)"/>
              </a:rPr>
              <a:t>Indikator ishoda: Procenat rešenih upravnih predmet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Calibri (Body)"/>
              </a:rPr>
              <a:t>Indikator izlaznog rezultata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Calibri (Body)"/>
              </a:rPr>
              <a:t>Prosečno vreme izdavanja lista nepokretnosti i kopije plana katastarske parcele (u danim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Calibri (Body)"/>
              </a:rPr>
              <a:t>Broj katastarskih opština za koj</a:t>
            </a:r>
            <a:r>
              <a:rPr b="0" lang="sr-Latn-RS" sz="1700" spc="-1" strike="noStrike">
                <a:solidFill>
                  <a:srgbClr val="000000"/>
                </a:solidFill>
                <a:latin typeface="Calibri (Body)"/>
              </a:rPr>
              <a:t>e</a:t>
            </a:r>
            <a:r>
              <a:rPr b="0" lang="vi-VN" sz="1700" spc="-1" strike="noStrike">
                <a:solidFill>
                  <a:srgbClr val="000000"/>
                </a:solidFill>
                <a:latin typeface="Calibri (Body)"/>
              </a:rPr>
              <a:t> je realizovana izrada digitalnih katastarskih plano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76720" indent="-2494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Calibri (Body)"/>
              </a:rPr>
              <a:t>Dužina vodova prevedenih u digitalni oblik (kilometr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itanja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HVALA NA PA</a:t>
            </a: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ŽNJI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304920" y="2451240"/>
            <a:ext cx="8534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52440" y="1814400"/>
            <a:ext cx="8486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edstavlja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 (Body)"/>
              </a:rPr>
              <a:t>skup aktivnosti i usluga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koje pruža budžetski korisni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efiniš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e se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na osnovu </a:t>
            </a:r>
            <a:r>
              <a:rPr b="1" i="1" lang="en-US" sz="2000" spc="-1" strike="noStrike">
                <a:solidFill>
                  <a:srgbClr val="000000"/>
                </a:solidFill>
                <a:latin typeface="Calibri (Body)"/>
              </a:rPr>
              <a:t>ključnih nadležnosti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budžetskog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Kroz njega se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realiz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uju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 (Body)"/>
              </a:rPr>
              <a:t>srednjoročni ciljev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Calibri (Body)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društveni i ekonomski efek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 (Body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imeri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 Progra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rogram „Zaštita kulturne bašti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rogram „Osnovno obrazovanj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rogram „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Zaštita bilja, veterina i bezbednost hrane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rogram „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Uređenje i nadzor finansijskog i fiskalnog sistem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Program „Preventivna zdravstvena zastita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 (Body)"/>
              </a:rPr>
              <a:t>Ministarstvo građevinarstva, saobraćaja i infrastruk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Prostorno i urbanističko planiranje i razvoj stan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Uređenje i nadzor u oblasti građevinarstva i </a:t>
            </a:r>
            <a:br>
              <a:rPr sz="2200"/>
            </a:b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građevinskog zemlj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Razvoj infrastrukturnih projekata od posebnog </a:t>
            </a:r>
            <a:br>
              <a:rPr sz="2200"/>
            </a:br>
            <a:r>
              <a:rPr b="0" lang="sr-Latn-RS" sz="2200" spc="-1" strike="noStrike">
                <a:solidFill>
                  <a:srgbClr val="000000"/>
                </a:solidFill>
                <a:latin typeface="Calibri (Body)"/>
              </a:rPr>
              <a:t>značaja za 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Uređenje i obezbeđenje saobraćajnog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Održavanje i upravljanje vodnim putev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685440" y="17521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 (Body)"/>
              </a:rPr>
              <a:t>Ministarstvo kulture i inform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Uređenje sistema u oblasti kulture i javnog informis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Zaštita i očuvanje kulturne bašt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Savremeno stvaralaštvo i kulturna industri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Sistem javnog informis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 (Body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 (Body)"/>
                <a:ea typeface="Calibri"/>
              </a:rPr>
              <a:t>Priznanja za doprinos u kultu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PROGRA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PROGRAMSKA AKTIVN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Predstavlja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ekuć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 delatnost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 budžetskog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Kroz programske aktivnosti se ostvaruju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konkretni ciljevi 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nižeg nivoa, koji doprinose ostvarenju cilj(ev)a </a:t>
            </a:r>
            <a:r>
              <a:rPr b="0" i="1" lang="en-US" sz="2000" spc="-1" strike="noStrike">
                <a:solidFill>
                  <a:srgbClr val="000000"/>
                </a:solidFill>
                <a:latin typeface="Calibri (Body)"/>
              </a:rPr>
              <a:t>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Primeri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 (Body)"/>
              </a:rPr>
              <a:t> Programske aktivno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Sanitarna inspekcij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(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rogram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Ure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đ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enje i nadzor u oblasti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zdravstva”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odrška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funkcionisanju 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muzeja i arhiva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(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rogram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Zaštita kulturne baštine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</a:t>
            </a: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Nabavka i kontrola materijala za potrebe državnih organa 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Podrška radu organa državne uprave’’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Revizija sistema upravljanja sredstava EU 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</a:t>
            </a:r>
            <a:r>
              <a:rPr b="1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Uređenje i nadzor finansijskog i fiskalnog sistema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’’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Mirno rešavanje radnih sporova </a:t>
            </a: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2000" spc="-1" strike="noStrike">
                <a:solidFill>
                  <a:srgbClr val="000000"/>
                </a:solidFill>
                <a:latin typeface="Calibri (Body)"/>
              </a:rPr>
              <a:t>’’Zapošljavanje i uređenje sistema rada i rano-pravnih odnosa’’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 (Body)"/>
              </a:rPr>
              <a:t>PRIMERI PROGRAMSKIH AKTIVNOST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684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(Body)"/>
              </a:rPr>
              <a:t>Ministarstvo poljoprivrede i zaštite živnotne sre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rogram „</a:t>
            </a:r>
            <a:r>
              <a:rPr b="1" lang="sv-SE" sz="2000" spc="-1" strike="noStrike">
                <a:solidFill>
                  <a:srgbClr val="000000"/>
                </a:solidFill>
                <a:latin typeface="Calibri (Body)"/>
              </a:rPr>
              <a:t>Zaštita bilja, veterina i bezbednost hrane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ogramska aktivnost: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 (Body)"/>
              </a:rPr>
              <a:t>Kontrola i nadzor zaraznih bolesti životi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ogramska aktivnost: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Bezbednost hrane životinjskog porek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 (Body)"/>
              </a:rPr>
              <a:t>Programska aktivnost:</a:t>
            </a:r>
            <a:r>
              <a:rPr b="0" lang="sr-Latn-RS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 (Body)"/>
              </a:rPr>
              <a:t>Inspekcijski nadzor u fitosanitarno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 (Body)"/>
              </a:rPr>
              <a:t>Programska aktivnost: Sredstva za zaštitu i ishranu bilj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Program „</a:t>
            </a:r>
            <a:r>
              <a:rPr b="1" lang="pl-PL" sz="2000" spc="-1" strike="noStrike">
                <a:solidFill>
                  <a:srgbClr val="000000"/>
                </a:solidFill>
                <a:latin typeface="Calibri (Body)"/>
              </a:rPr>
              <a:t>Uređenje i nadzor u oblasti poljoprivrede</a:t>
            </a:r>
            <a:r>
              <a:rPr b="1" lang="en-US" sz="2000" spc="-1" strike="noStrike">
                <a:solidFill>
                  <a:srgbClr val="000000"/>
                </a:solidFill>
                <a:latin typeface="Calibri (Body)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ska aktivnost: </a:t>
            </a:r>
            <a:r>
              <a:rPr b="0" lang="vi-VN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Normativno uređenje, programiranje i praćenje mera poljoprivredne politike i ruralnog razvo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ska aktivnost: Poljoprivredna inspe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Calibri (Body)"/>
                <a:ea typeface="Calibri"/>
              </a:rPr>
              <a:t>Programska aktivnost: Administracija i uprav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(Body)"/>
              </a:rPr>
              <a:t>PROJEK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6094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Predstavlja</a:t>
            </a:r>
            <a:r>
              <a:rPr b="1" i="1" lang="sr-Latn-RS" sz="1800" spc="-1" strike="noStrike">
                <a:solidFill>
                  <a:srgbClr val="000000"/>
                </a:solidFill>
                <a:latin typeface="Calibri (Body)"/>
              </a:rPr>
              <a:t> p</a:t>
            </a:r>
            <a:r>
              <a:rPr b="1" i="1" lang="en-US" sz="1800" spc="-1" strike="noStrike">
                <a:solidFill>
                  <a:srgbClr val="000000"/>
                </a:solidFill>
                <a:latin typeface="Calibri (Body)"/>
              </a:rPr>
              <a:t>oslovni poduhvat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Kroz projekte se ostvaruju 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onkretn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 cilj</a:t>
            </a:r>
            <a:r>
              <a:rPr b="1" lang="sr-Latn-RS" sz="1800" spc="-1" strike="noStrike">
                <a:solidFill>
                  <a:srgbClr val="000000"/>
                </a:solidFill>
                <a:latin typeface="Calibri (Body)"/>
              </a:rPr>
              <a:t>evi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 nižeg nivoa koji doprinos</a:t>
            </a: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 ostvarenju cilj(ev)a </a:t>
            </a:r>
            <a:r>
              <a:rPr b="0" i="1" lang="en-US" sz="1800" spc="-1" strike="noStrike">
                <a:solidFill>
                  <a:srgbClr val="000000"/>
                </a:solidFill>
                <a:latin typeface="Calibri (Body)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(Body)"/>
              </a:rPr>
              <a:t>Sprovodi se 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</a:rPr>
              <a:t>u </a:t>
            </a:r>
            <a:r>
              <a:rPr b="1" lang="en-US" sz="1800" spc="-1" strike="noStrike">
                <a:solidFill>
                  <a:srgbClr val="000000"/>
                </a:solidFill>
                <a:latin typeface="Calibri (Body)"/>
              </a:rPr>
              <a:t>ograničenom vremenskom interv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(Body)"/>
              </a:rPr>
              <a:t>Prime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Elektronski pristup bibliotekama</a:t>
            </a:r>
            <a:r>
              <a:rPr b="0" lang="en-US" sz="1600" spc="-1" strike="noStrike">
                <a:solidFill>
                  <a:srgbClr val="000000"/>
                </a:solidFill>
                <a:latin typeface="Calibri (Body)"/>
              </a:rPr>
              <a:t> (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alibri (Body)"/>
              </a:rPr>
              <a:t>rogram 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„Zaštita kulturne baštine“</a:t>
            </a:r>
            <a:r>
              <a:rPr b="0" lang="en-US" sz="16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Izgradnja putne veže i graničnog prelaza na relaciji Ljubovija-Bratunac </a:t>
            </a:r>
            <a:br>
              <a:rPr sz="1600"/>
            </a:b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(P</a:t>
            </a:r>
            <a:r>
              <a:rPr b="0" lang="en-US" sz="1600" spc="-1" strike="noStrike">
                <a:solidFill>
                  <a:srgbClr val="000000"/>
                </a:solidFill>
                <a:latin typeface="Calibri (Body)"/>
              </a:rPr>
              <a:t>rogram 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„Razvoj infrastruktur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nih projekata od značaja za RS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Izgradnja rezervoara na instalaciji Požega </a:t>
            </a:r>
            <a:br>
              <a:rPr sz="1600"/>
            </a:b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’’Poslovanje republičkim robnim rezervama’’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Modernizacija opreme za etaloniranje u Meteorološkoj laboratoriji RHZM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 (Program </a:t>
            </a:r>
            <a:r>
              <a:rPr b="1" lang="it-IT" sz="1600" spc="-1" strike="noStrike">
                <a:solidFill>
                  <a:srgbClr val="000000"/>
                </a:solidFill>
                <a:latin typeface="Calibri (Body)"/>
              </a:rPr>
              <a:t>’’Zaštita i monitoring životne sredine’’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Podrška privatnom sektoru u južnoj Srbiji za 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proizvodnju 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voć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, jagodičasto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 i bobičasto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 voć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1600"/>
            </a:b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’’Podsticaji poljoprivrednoj proizvodnji i ruralnom razvoju’’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Kampanja o podizanju svesti javnosti o korupciji </a:t>
            </a:r>
            <a:br>
              <a:rPr sz="1600"/>
            </a:b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’’Borba protiv korupcije’’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 (Body)"/>
              </a:rPr>
              <a:t>Razvoj informacionog sistema u fitosanitarnoj oblasti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 </a:t>
            </a:r>
            <a:br>
              <a:rPr sz="1600"/>
            </a:b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(Program </a:t>
            </a:r>
            <a:r>
              <a:rPr b="1" lang="sr-Latn-RS" sz="1600" spc="-1" strike="noStrike">
                <a:solidFill>
                  <a:srgbClr val="000000"/>
                </a:solidFill>
                <a:latin typeface="Calibri (Body)"/>
              </a:rPr>
              <a:t>’’</a:t>
            </a:r>
            <a:r>
              <a:rPr b="1" lang="sv-SE" sz="1600" spc="-1" strike="noStrike">
                <a:solidFill>
                  <a:srgbClr val="000000"/>
                </a:solidFill>
                <a:latin typeface="Calibri (Body)"/>
              </a:rPr>
              <a:t>Zaštita bilja, veterina i bezbednost hrane“</a:t>
            </a:r>
            <a:r>
              <a:rPr b="0" lang="sr-Latn-RS" sz="1600" spc="-1" strike="noStrike">
                <a:solidFill>
                  <a:srgbClr val="000000"/>
                </a:solidFill>
                <a:latin typeface="Calibri (Body)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ID</cp:lastModifiedBy>
  <cp:lastPrinted>2004-09-30T16:41:33Z</cp:lastPrinted>
  <dcterms:modified xsi:type="dcterms:W3CDTF">2014-06-09T07:49:32Z</dcterms:modified>
  <cp:revision>314</cp:revision>
  <dc:subject/>
  <dc:title>PowerPoint Presentation</dc:title>
</cp:coreProperties>
</file>