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dt" idx="37"/>
          </p:nvPr>
        </p:nvSpPr>
        <p:spPr>
          <a:xfrm>
            <a:off x="3793680" y="-360"/>
            <a:ext cx="2917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Img"/>
          </p:nvPr>
        </p:nvSpPr>
        <p:spPr>
          <a:xfrm>
            <a:off x="884160" y="725040"/>
            <a:ext cx="4943520" cy="37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body"/>
          </p:nvPr>
        </p:nvSpPr>
        <p:spPr>
          <a:xfrm>
            <a:off x="874800" y="4677840"/>
            <a:ext cx="49608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ftr" idx="38"/>
          </p:nvPr>
        </p:nvSpPr>
        <p:spPr>
          <a:xfrm>
            <a:off x="-360" y="9354600"/>
            <a:ext cx="2917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 type="sldNum" idx="39"/>
          </p:nvPr>
        </p:nvSpPr>
        <p:spPr>
          <a:xfrm>
            <a:off x="3793680" y="9354600"/>
            <a:ext cx="2917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D63E-A69B-471D-8046-4DC7E5577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884160" y="72540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874800" y="4677840"/>
            <a:ext cx="4960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794040" y="9354960"/>
            <a:ext cx="2917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EF4E-A0C5-457F-8C40-BB5924C19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884160" y="72540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874800" y="4677840"/>
            <a:ext cx="4960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794040" y="9354960"/>
            <a:ext cx="2917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C6D1-860A-460A-A94C-801B86B61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884160" y="72540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74800" y="4677840"/>
            <a:ext cx="49608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 би се омогућило спровођење анализе потрошње јавних средстава и постигнутих ефеката у областима у којима надлежност имају и централна и покрајинска влас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794040" y="9354960"/>
            <a:ext cx="2917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1A0C-AF3F-4131-AE4D-382FEC5D2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884160" y="72540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874800" y="4677840"/>
            <a:ext cx="49608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Циљ програм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је специфичан друштвени или економски ефекат – крајњи исход који треба остварити у средњорочном периоду спровођењем мера у оквиру програм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Циљ програмске активности или проје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е може односити на крајњи исход (одређени друштвени или економски ефекат), али и на непосредне излазне резултате који се остварују спровођењем програмске активности или пројекта у краткорочном или средњорочном период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Мерење остварење циље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Индикатори учинк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безбеђују информације о ефективности и ефикасности програма, програмских активности и пројека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Два тип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ндикатора учин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) Индикатори ис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) Индикатори излазног резулта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794040" y="9354960"/>
            <a:ext cx="2917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82EC-D587-4DA5-ADF7-B5A949CA3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884160" y="72540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874800" y="4677840"/>
            <a:ext cx="4960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794040" y="9354960"/>
            <a:ext cx="2917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B82F-65E6-403C-A9B3-C13591D91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884160" y="72540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874800" y="4677840"/>
            <a:ext cx="4960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794040" y="9354960"/>
            <a:ext cx="2917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0FF4-5483-4FCE-B90E-8A9C0CE8F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884160" y="72540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874800" y="4677840"/>
            <a:ext cx="49608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Мониторинг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- прикупљање и пружање информација о томе како се Програм, Програмска активност или Пројекат спроводи у односу на очекиване резултате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Евалуациј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успешности Програма, Програмске активности или Пројекта представља анализу остварених вредности индикатора учинка и активности које се спроводе да би се планирани циљеви постигл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794040" y="9354960"/>
            <a:ext cx="2917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AD6D-C912-4893-A35A-3071FB7FF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884160" y="72540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874800" y="4677840"/>
            <a:ext cx="49608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26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рук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a je 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у р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д т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груп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укључ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и пр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дст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вници 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рг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низ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ци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них 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диниц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дл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жних з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стр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шк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пл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нир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њ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e, 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ao 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диниц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упр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вљ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њ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oje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ктим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a (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пит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лни пројекти, пројекти 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IPA, 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oje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кти к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oj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и с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фин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нсир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aj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у из з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aj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и сл.). 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ђу чл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вим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дн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груп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тр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бн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је им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ти и пр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дст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вник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руководилаца (п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ћници, држ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вни с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кр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ри, з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ници дир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кт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sr-Latn-RS" sz="7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sr-RS" sz="700" spc="-1" strike="noStrike">
                <a:solidFill>
                  <a:srgbClr val="000000"/>
                </a:solidFill>
                <a:latin typeface="Times New Roman"/>
              </a:rPr>
              <a:t>и сл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794040" y="9354960"/>
            <a:ext cx="2917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86AD-BACF-4B95-977F-4C06CFD3D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884160" y="72540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74800" y="4677840"/>
            <a:ext cx="4960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794040" y="9354960"/>
            <a:ext cx="2917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9230-BD34-4E6F-8FBF-D7F7D90BC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884160" y="72540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874800" y="4677840"/>
            <a:ext cx="49608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Times New Roman"/>
              </a:rPr>
              <a:t>Фокус на стратешким приоритетима и резултати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794040" y="9354960"/>
            <a:ext cx="2917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DC0B-D00B-42D0-8AC8-BCEF3E29F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884160" y="72540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874800" y="4677840"/>
            <a:ext cx="4960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794040" y="9354960"/>
            <a:ext cx="2917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1F1B-F91B-4096-B770-503C65D92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884160" y="72540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874800" y="4677840"/>
            <a:ext cx="4960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794040" y="9354960"/>
            <a:ext cx="2917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D001-80B3-40A1-9059-7BEEE28EC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884160" y="72540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874800" y="4677840"/>
            <a:ext cx="49608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794040" y="9354960"/>
            <a:ext cx="2917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9B93-36F5-4DC6-8755-6B12B0EB0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884160" y="72540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874800" y="4677840"/>
            <a:ext cx="49608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Прoгра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прeдстaвљa скуп мера које кoрисници буџета спроводе у складу са својим кључним надлежностима и утврђеним  срeдњoрoчним  циљeвима. Aлoкaциja срeдстaвa oпрeдeљeних зa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прoгрa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рши сe aпрoприjaциjама вeзaним зa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прoгрaмскe aктивнoст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прojeкт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 oквиру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прoгрaм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Прoгрa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се  утврђује и спроводи од стране једног или више корисника буџета и ниje врeмeнски oгрaничe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Прoгрaмскa aктивнoст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тeкућa дeлaтнoс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рисник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буџета чијим спровођењем сe постижу циљeви кojи дoпринoсe достизању циљева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прoгрaм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Прoгрaмске aктивнoст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тврђују на основу његових уже дефинисаних надлежности. Moгу сe oднoсити нa: пружaњe jaвнe услугe, припрeму и доношење нoрмативних и стратeшких аката, рaд инспeкциjскe службe, спрoвођeњe мeрa јавних пoлитика, aдминистрaтивну дeлaтнoст oргaнa и д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Прojeкa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временски ограничен пoслoвни пoдухвa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рисник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буџета чијим спровођењем сe постижу циљeви кojи дoпринoсe постизању циљева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прoгрaмa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жe сe oднoсити нa кaпитaлнo улaгaњe, унaпрeђeњe прoцeдурe у jaвнoj aдминистрaциjи, усавршавање држaвних службeникa и сличнe пoдухвaтe кojи дoпринoс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квaлитeтниje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пружaњу jaвних услугa. Taкoђe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прojeкт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oгу прeдстaвљaти крaткoрoчни инструмeнт утврђене јавне пoлитик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Times New Roman"/>
              </a:rPr>
              <a:t>Одговорна лица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794040" y="9354960"/>
            <a:ext cx="2917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DA0C-3E4F-4588-A4B4-53CD38A60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884160" y="72540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874800" y="4677840"/>
            <a:ext cx="49608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Times New Roman"/>
              </a:rPr>
              <a:t>УЗАП – Управа за аграрна плаћањ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  <a:ea typeface="Calibri"/>
              </a:rPr>
              <a:t>ФЗРП - Фонд за развој пољопривред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794040" y="9354960"/>
            <a:ext cx="2917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C4B2-D4D7-4757-9AB3-83FAA3FCE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EB69-4FF6-44EB-8534-2C1D9A6E7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C10C-97E8-4319-9760-0D705B30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32A9B-6B4E-4816-97AB-3D3EE890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654D1-074B-4E5C-BB2C-A4BEDD89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F65F6-CB70-4186-BF8B-8D404E38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A60C4-0194-4CD9-A8F9-432BA926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48BC5-D418-4642-950D-AE5C1806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8BA25-039D-4648-837F-F7FBBF58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DD53F-3132-4E1D-B394-4967696D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A7680-2F13-4352-B3CE-CCF32C39B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94C9D-C640-40FB-B249-CD8366D6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D9E726-F84F-4A56-ACE3-F561E0AE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8F3F-096B-42DB-B423-E22CB329C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8CFE7-A87A-42C0-B88C-56F5E70C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10D49-C5DA-4ED6-B809-66604560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2EE08-6810-443D-B98D-0224C2C4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C94512-41DF-473C-B685-46143E9D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E7865-117D-423A-B474-4FDF389E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C14BC-6612-44BE-AD6B-FFA97C78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3432D-D61D-4924-9F4A-F8480D5B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360043-9922-4A07-9A9E-731B2885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DA52B-B7B2-43AD-9DCF-7BD35B5C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7D485-C2ED-48DC-9492-26CCD452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B028-33F2-4828-AD58-CB52985D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698AE-33F4-4D3D-B2FE-D7015528C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A2DA0-5337-498A-838D-B95E896B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02AE1-7A77-4F77-8096-3FC94789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53AC5-6714-4738-8332-9928929C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5A7B3-81AA-41E1-A756-C5DF24E4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7DF8C-ADBE-4636-A255-CE3B5457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B0449-FDD8-4FE5-ADAA-DC07773F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E8831-D4C8-452C-872A-10B9B3BE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BE251-636F-42D0-8F41-C25A0112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2844A-5023-4B1A-9689-EACA4578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9031-9547-414F-BAF9-4D97B86C0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9BA57-DD85-4D5A-900B-84FE027F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CD1D0-9B30-4C1D-82F5-6E130C402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1A726-4F54-40BB-A65A-D7259BD35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9F6BF-7537-4550-933A-FEDB3AE2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BC439-A410-4D94-99AD-80B7AC65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90B287-631B-4D90-A8D6-72BD8CC8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C9575-0CB1-44B6-802E-279A3FBA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E8D15D-DE37-4E00-B530-7E087614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464DF8-6101-464E-859E-7B14F61D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8E91A2-65C9-4896-8A13-6EA10EF8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59E4-CA5E-4695-9AAA-09C102EE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0E7408-EEFA-4409-BFC7-FA8CD3A6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567EEB-1FF7-4959-8207-36430B90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D77C30-D673-4E53-B629-B45C6D97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5A6D5-5098-461D-8050-B4F20036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F8D0B-AF1B-47DA-8A71-CE5C94F66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B2B4-69D1-4CBE-ADAC-79C40A36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DE3C-BB70-484F-8A6E-9FAA8036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7ED6-4FBF-4722-AC63-96D6B1F3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69C9-3D36-4F5C-95BC-A2D9471F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C110-0257-4278-BB29-9D759772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B703-76E9-4CAF-AC66-E2DF4096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7A6C-E130-453D-9A9C-095AAE0A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A727-FAD2-44CA-AB1F-C7660524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9B29-1F51-436A-8714-7846F2DC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72EF-E1DA-426E-8227-6E57008C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93B4-AB8A-40F1-BA8F-066594F8A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EAFF9-916B-4C22-86CB-CDB7C7E3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28872-FAA2-470D-BE15-284E06C0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B1590-4500-43B7-A2A9-FA0D80CC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E85EE-CF5C-4E44-B020-A8F57E0F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5452F-EC74-47A7-9A42-29805812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F7BC-CD71-4154-B5CF-BA4BA1B9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E65FF-3BC6-4223-A732-9C78D197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DAA46-2F15-4E3F-9439-7DA51EB6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1B07D-8EB4-4148-81AF-C4FFEE09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580F2-B127-4005-A610-C3644B2C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883C7-D6E9-4D8C-B833-03E1D767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B2B30-3E8D-4245-A0C2-689E88AC2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CBA73-536C-423B-9EB9-CC737AC41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F0055-240E-4422-834D-5AA70267A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AA27F-BC7E-4779-9DE2-6AD12F21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4CBBD-16EF-4CB7-9238-1D0BF79B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D80C-264E-468A-83FB-0FC9706F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3320C-9D62-4456-96C6-360C622C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DF03D-0524-4860-8C6F-657D8516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56B9C-2B8E-4FAA-9B4A-FADEAAF3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457A6-1CCC-4B88-8D7F-ECA2C2E9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D3922-C5E5-4698-AA79-7B613D94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B7F93-63F8-4F86-BA5F-E1916C68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9A56E-345F-41B1-A405-99B37B71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E8899-38DC-454F-9B18-28EC3A907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17AA8-DDA8-4312-8BBD-37D25796A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44D5E-3E35-4118-ABD4-2633B585D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2A74-F3F4-4899-9BDE-CCCFFDCD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ADC79-D413-4CD5-97F4-F43CB37B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CEEE7-4704-4B65-966E-151FC1A5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47BAF-D965-4131-B288-6B11ABE5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8EEC3-78DC-43FB-8F80-BC30EE0A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1CAAB-DA34-4580-B1F6-310C78A4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C7E61-DDE1-4CE7-8CA4-5343E45D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AE111-6CDE-46AB-969B-FBFB5CAB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522E0-F1F4-411D-901B-F62F7C84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CE053-F8B2-4F37-9D83-0DF444FC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76BEB-065E-4D1F-A373-0356AA94F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8DF2-A231-4CE5-B783-388E3300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FCE9C-74A4-489F-BB3C-37446A145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8E509-4E0A-48DB-B0CE-85292FAE2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4AB21-EE4C-4E34-8506-86E24F77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A203A-88FC-41B5-B7A1-426D48CB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68581-4089-4581-B601-211F2B5B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0EF2B-FA1F-4F81-88AC-3AEC63B9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1B150-6067-4DE1-9A72-F63C3794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7227B-306A-4033-A253-72356630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F26CA-D57B-4D80-BEFE-8B9AC54A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6D065-11FA-49B7-A5E8-6122C43E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A33E-F693-4867-80C7-6461FB90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F4774-421A-4919-B6AB-377C65D3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6A0C5-5BD2-44D1-8F21-F69188A3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88019-7685-4BBC-8EC3-1A86FD8EB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14349-A583-4D66-AABA-2889D2270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9E2AC-5253-4497-9288-D627E610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35DA0-E481-4AF7-B72B-C7CA817F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27DE8-3593-42D7-BF82-ADEBA7BE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EBAD5-873E-4885-89C9-79D42450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08DFB-CDED-426C-8F27-645B85E8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6C59E-F677-4078-B382-2A7E3F99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5977-BA6B-42DA-8D1A-F68E9235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F8DA3-8C1A-4379-AACE-D32DF5F4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AF378-15B2-45DB-B0AC-F5AA9D94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C58F1-3F77-4ADA-88F0-86D1265F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5E4B1-4275-4C57-8466-24E418D65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F4C00-A64E-4A8C-9F77-60C9446DC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10BF3-FAF3-49FB-9EFB-1648613DF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98E68-C89D-4B7F-9EB9-05FDF70C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B2F5D-8356-4C1D-9DE7-3F0567A9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84F76-0089-469F-82AA-8E2BE987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597D1-480A-47EF-99B1-C2A50146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D5A0-458D-4195-A0AC-5675D828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C919D-30AB-4B06-8393-5918AF14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9324F-0322-4DEB-ADE8-770778DA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D1A35-9B02-420A-80C7-716174EB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7118A-E274-4D96-9466-64A5D70B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4DE6D-3767-4636-83B3-32D23912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8210E-2164-48EC-866F-032C1222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4A306-B271-4348-ACAF-F8C5BF0EB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479FD-BED9-42DB-83A6-B11DA85C8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B885E-A038-4801-A836-E5D4F462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E8E6C-57D9-4523-A2DA-6A5ECEF3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BF28-0F10-40EC-A720-F115C73721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1e4a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0" y="838080"/>
            <a:ext cx="152280" cy="601992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4" descr="Brand_SERBIA_RGB_LO"/>
          <p:cNvPicPr/>
          <p:nvPr/>
        </p:nvPicPr>
        <p:blipFill>
          <a:blip r:embed="rId2"/>
          <a:stretch/>
        </p:blipFill>
        <p:spPr>
          <a:xfrm>
            <a:off x="6629400" y="228600"/>
            <a:ext cx="2057400" cy="293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" descr="Description: GRB GRAY 100%"/>
          <p:cNvPicPr/>
          <p:nvPr/>
        </p:nvPicPr>
        <p:blipFill>
          <a:blip r:embed="rId3"/>
          <a:stretch/>
        </p:blipFill>
        <p:spPr>
          <a:xfrm>
            <a:off x="76320" y="52560"/>
            <a:ext cx="457200" cy="5619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"/>
          <p:cNvPicPr/>
          <p:nvPr/>
        </p:nvPicPr>
        <p:blipFill>
          <a:blip r:embed="rId4"/>
          <a:stretch/>
        </p:blipFill>
        <p:spPr>
          <a:xfrm>
            <a:off x="609480" y="65160"/>
            <a:ext cx="5257800" cy="53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10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1e4a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1"/>
          <p:cNvSpPr/>
          <p:nvPr/>
        </p:nvSpPr>
        <p:spPr>
          <a:xfrm>
            <a:off x="0" y="838080"/>
            <a:ext cx="152280" cy="601992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4" descr="Brand_SERBIA_RGB_LO"/>
          <p:cNvPicPr/>
          <p:nvPr/>
        </p:nvPicPr>
        <p:blipFill>
          <a:blip r:embed="rId2"/>
          <a:stretch/>
        </p:blipFill>
        <p:spPr>
          <a:xfrm>
            <a:off x="6629400" y="228600"/>
            <a:ext cx="2057400" cy="2937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" descr="Description: GRB GRAY 100%"/>
          <p:cNvPicPr/>
          <p:nvPr/>
        </p:nvPicPr>
        <p:blipFill>
          <a:blip r:embed="rId3"/>
          <a:stretch/>
        </p:blipFill>
        <p:spPr>
          <a:xfrm>
            <a:off x="76320" y="52560"/>
            <a:ext cx="457200" cy="5619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"/>
          <p:cNvPicPr/>
          <p:nvPr/>
        </p:nvPicPr>
        <p:blipFill>
          <a:blip r:embed="rId4"/>
          <a:stretch/>
        </p:blipFill>
        <p:spPr>
          <a:xfrm>
            <a:off x="609480" y="65160"/>
            <a:ext cx="5257800" cy="5317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870B-8D27-4F21-A490-4578901C2D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0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1e4a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1"/>
          <p:cNvSpPr/>
          <p:nvPr/>
        </p:nvSpPr>
        <p:spPr>
          <a:xfrm>
            <a:off x="0" y="838080"/>
            <a:ext cx="152280" cy="601992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24" descr="Brand_SERBIA_RGB_LO"/>
          <p:cNvPicPr/>
          <p:nvPr/>
        </p:nvPicPr>
        <p:blipFill>
          <a:blip r:embed="rId2"/>
          <a:stretch/>
        </p:blipFill>
        <p:spPr>
          <a:xfrm>
            <a:off x="6629400" y="228600"/>
            <a:ext cx="2057400" cy="29376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" descr="Description: GRB GRAY 100%"/>
          <p:cNvPicPr/>
          <p:nvPr/>
        </p:nvPicPr>
        <p:blipFill>
          <a:blip r:embed="rId3"/>
          <a:stretch/>
        </p:blipFill>
        <p:spPr>
          <a:xfrm>
            <a:off x="76320" y="52560"/>
            <a:ext cx="457200" cy="56196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" descr=""/>
          <p:cNvPicPr/>
          <p:nvPr/>
        </p:nvPicPr>
        <p:blipFill>
          <a:blip r:embed="rId4"/>
          <a:stretch/>
        </p:blipFill>
        <p:spPr>
          <a:xfrm>
            <a:off x="609480" y="65160"/>
            <a:ext cx="5257800" cy="53172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EA9D-3F51-4606-BF3D-3FEB815412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10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1e4a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1"/>
          <p:cNvSpPr/>
          <p:nvPr/>
        </p:nvSpPr>
        <p:spPr>
          <a:xfrm>
            <a:off x="0" y="838080"/>
            <a:ext cx="152280" cy="601992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24" descr="Brand_SERBIA_RGB_LO"/>
          <p:cNvPicPr/>
          <p:nvPr/>
        </p:nvPicPr>
        <p:blipFill>
          <a:blip r:embed="rId2"/>
          <a:stretch/>
        </p:blipFill>
        <p:spPr>
          <a:xfrm>
            <a:off x="6629400" y="228600"/>
            <a:ext cx="2057400" cy="2937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" descr="Description: GRB GRAY 100%"/>
          <p:cNvPicPr/>
          <p:nvPr/>
        </p:nvPicPr>
        <p:blipFill>
          <a:blip r:embed="rId3"/>
          <a:stretch/>
        </p:blipFill>
        <p:spPr>
          <a:xfrm>
            <a:off x="76320" y="52560"/>
            <a:ext cx="457200" cy="56196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" descr=""/>
          <p:cNvPicPr/>
          <p:nvPr/>
        </p:nvPicPr>
        <p:blipFill>
          <a:blip r:embed="rId4"/>
          <a:stretch/>
        </p:blipFill>
        <p:spPr>
          <a:xfrm>
            <a:off x="609480" y="65160"/>
            <a:ext cx="5257800" cy="53172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9E28-849D-4CDB-95A0-344899BF6B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1308240"/>
            <a:ext cx="9144000" cy="15228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1e4a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1460520"/>
            <a:ext cx="152280" cy="53974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1e4a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2"/>
          <a:srcRect l="48690" t="0" r="0" b="0"/>
          <a:stretch/>
        </p:blipFill>
        <p:spPr>
          <a:xfrm>
            <a:off x="6553080" y="533520"/>
            <a:ext cx="2590920" cy="556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5" descr="Brand_SERBIA_RGB_LO"/>
          <p:cNvPicPr/>
          <p:nvPr/>
        </p:nvPicPr>
        <p:blipFill>
          <a:blip r:embed="rId3"/>
          <a:stretch/>
        </p:blipFill>
        <p:spPr>
          <a:xfrm>
            <a:off x="6669000" y="219240"/>
            <a:ext cx="2206800" cy="314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8" descr=""/>
          <p:cNvPicPr/>
          <p:nvPr/>
        </p:nvPicPr>
        <p:blipFill>
          <a:blip r:embed="rId4"/>
          <a:stretch/>
        </p:blipFill>
        <p:spPr>
          <a:xfrm>
            <a:off x="3124080" y="287280"/>
            <a:ext cx="3124440" cy="704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" descr="Description: GRB GRAY 100%"/>
          <p:cNvPicPr/>
          <p:nvPr/>
        </p:nvPicPr>
        <p:blipFill>
          <a:blip r:embed="rId5"/>
          <a:stretch/>
        </p:blipFill>
        <p:spPr>
          <a:xfrm>
            <a:off x="76320" y="311040"/>
            <a:ext cx="490320" cy="603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6"/>
          <a:stretch/>
        </p:blipFill>
        <p:spPr>
          <a:xfrm>
            <a:off x="609480" y="312840"/>
            <a:ext cx="5943600" cy="6015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34AF-203C-422A-B535-2FAB1972AB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0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1e4a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0" y="838080"/>
            <a:ext cx="152280" cy="601992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4" descr="Brand_SERBIA_RGB_LO"/>
          <p:cNvPicPr/>
          <p:nvPr/>
        </p:nvPicPr>
        <p:blipFill>
          <a:blip r:embed="rId2"/>
          <a:stretch/>
        </p:blipFill>
        <p:spPr>
          <a:xfrm>
            <a:off x="6629400" y="228600"/>
            <a:ext cx="2057400" cy="293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" descr="Description: GRB GRAY 100%"/>
          <p:cNvPicPr/>
          <p:nvPr/>
        </p:nvPicPr>
        <p:blipFill>
          <a:blip r:embed="rId3"/>
          <a:stretch/>
        </p:blipFill>
        <p:spPr>
          <a:xfrm>
            <a:off x="76320" y="52560"/>
            <a:ext cx="457200" cy="561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4"/>
          <a:stretch/>
        </p:blipFill>
        <p:spPr>
          <a:xfrm>
            <a:off x="609480" y="65160"/>
            <a:ext cx="5257800" cy="531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"/>
          <p:cNvPicPr/>
          <p:nvPr/>
        </p:nvPicPr>
        <p:blipFill>
          <a:blip r:embed="rId5"/>
          <a:stretch/>
        </p:blipFill>
        <p:spPr>
          <a:xfrm>
            <a:off x="3139920" y="66600"/>
            <a:ext cx="2400480" cy="5414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C7B9-8C3E-420F-8A1A-DCDB52C20E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0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1e4a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0" y="838080"/>
            <a:ext cx="152280" cy="601992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4" descr="Brand_SERBIA_RGB_LO"/>
          <p:cNvPicPr/>
          <p:nvPr/>
        </p:nvPicPr>
        <p:blipFill>
          <a:blip r:embed="rId2"/>
          <a:stretch/>
        </p:blipFill>
        <p:spPr>
          <a:xfrm>
            <a:off x="6629400" y="228600"/>
            <a:ext cx="2057400" cy="293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" descr="Description: GRB GRAY 100%"/>
          <p:cNvPicPr/>
          <p:nvPr/>
        </p:nvPicPr>
        <p:blipFill>
          <a:blip r:embed="rId3"/>
          <a:stretch/>
        </p:blipFill>
        <p:spPr>
          <a:xfrm>
            <a:off x="76320" y="52560"/>
            <a:ext cx="457200" cy="561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4"/>
          <a:stretch/>
        </p:blipFill>
        <p:spPr>
          <a:xfrm>
            <a:off x="609480" y="65160"/>
            <a:ext cx="5257800" cy="531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" descr=""/>
          <p:cNvPicPr/>
          <p:nvPr/>
        </p:nvPicPr>
        <p:blipFill>
          <a:blip r:embed="rId5"/>
          <a:stretch/>
        </p:blipFill>
        <p:spPr>
          <a:xfrm>
            <a:off x="3139920" y="66600"/>
            <a:ext cx="2400480" cy="5414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266F-B6B0-4207-9B25-26E7EC23FB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0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1e4a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0" y="838080"/>
            <a:ext cx="152280" cy="601992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4" descr="Brand_SERBIA_RGB_LO"/>
          <p:cNvPicPr/>
          <p:nvPr/>
        </p:nvPicPr>
        <p:blipFill>
          <a:blip r:embed="rId2"/>
          <a:stretch/>
        </p:blipFill>
        <p:spPr>
          <a:xfrm>
            <a:off x="6629400" y="228600"/>
            <a:ext cx="2057400" cy="293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" descr="Description: GRB GRAY 100%"/>
          <p:cNvPicPr/>
          <p:nvPr/>
        </p:nvPicPr>
        <p:blipFill>
          <a:blip r:embed="rId3"/>
          <a:stretch/>
        </p:blipFill>
        <p:spPr>
          <a:xfrm>
            <a:off x="76320" y="52560"/>
            <a:ext cx="457200" cy="561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"/>
          <p:cNvPicPr/>
          <p:nvPr/>
        </p:nvPicPr>
        <p:blipFill>
          <a:blip r:embed="rId4"/>
          <a:stretch/>
        </p:blipFill>
        <p:spPr>
          <a:xfrm>
            <a:off x="609480" y="65160"/>
            <a:ext cx="5257800" cy="53172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8887-2ABF-4592-8F55-2D26597070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0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1e4a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0" y="838080"/>
            <a:ext cx="152280" cy="601992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4" descr="Brand_SERBIA_RGB_LO"/>
          <p:cNvPicPr/>
          <p:nvPr/>
        </p:nvPicPr>
        <p:blipFill>
          <a:blip r:embed="rId2"/>
          <a:stretch/>
        </p:blipFill>
        <p:spPr>
          <a:xfrm>
            <a:off x="6629400" y="228600"/>
            <a:ext cx="2057400" cy="293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" descr="Description: GRB GRAY 100%"/>
          <p:cNvPicPr/>
          <p:nvPr/>
        </p:nvPicPr>
        <p:blipFill>
          <a:blip r:embed="rId3"/>
          <a:stretch/>
        </p:blipFill>
        <p:spPr>
          <a:xfrm>
            <a:off x="76320" y="52560"/>
            <a:ext cx="457200" cy="5619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4"/>
          <a:stretch/>
        </p:blipFill>
        <p:spPr>
          <a:xfrm>
            <a:off x="609480" y="65160"/>
            <a:ext cx="5257800" cy="531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794C-6DBB-4DB2-A648-1F1D8994F7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0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1e4a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1"/>
          <p:cNvSpPr/>
          <p:nvPr/>
        </p:nvSpPr>
        <p:spPr>
          <a:xfrm>
            <a:off x="0" y="838080"/>
            <a:ext cx="152280" cy="601992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4" descr="Brand_SERBIA_RGB_LO"/>
          <p:cNvPicPr/>
          <p:nvPr/>
        </p:nvPicPr>
        <p:blipFill>
          <a:blip r:embed="rId2"/>
          <a:stretch/>
        </p:blipFill>
        <p:spPr>
          <a:xfrm>
            <a:off x="6629400" y="228600"/>
            <a:ext cx="2057400" cy="2937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" descr="Description: GRB GRAY 100%"/>
          <p:cNvPicPr/>
          <p:nvPr/>
        </p:nvPicPr>
        <p:blipFill>
          <a:blip r:embed="rId3"/>
          <a:stretch/>
        </p:blipFill>
        <p:spPr>
          <a:xfrm>
            <a:off x="76320" y="52560"/>
            <a:ext cx="457200" cy="5619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4"/>
          <a:stretch/>
        </p:blipFill>
        <p:spPr>
          <a:xfrm>
            <a:off x="609480" y="65160"/>
            <a:ext cx="5257800" cy="5317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0483-A0F4-43A6-8905-8F47A556BB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0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1e4a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1"/>
          <p:cNvSpPr/>
          <p:nvPr/>
        </p:nvSpPr>
        <p:spPr>
          <a:xfrm>
            <a:off x="0" y="838080"/>
            <a:ext cx="152280" cy="601992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4" descr="Brand_SERBIA_RGB_LO"/>
          <p:cNvPicPr/>
          <p:nvPr/>
        </p:nvPicPr>
        <p:blipFill>
          <a:blip r:embed="rId2"/>
          <a:stretch/>
        </p:blipFill>
        <p:spPr>
          <a:xfrm>
            <a:off x="6629400" y="228600"/>
            <a:ext cx="2057400" cy="293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" descr="Description: GRB GRAY 100%"/>
          <p:cNvPicPr/>
          <p:nvPr/>
        </p:nvPicPr>
        <p:blipFill>
          <a:blip r:embed="rId3"/>
          <a:stretch/>
        </p:blipFill>
        <p:spPr>
          <a:xfrm>
            <a:off x="76320" y="52560"/>
            <a:ext cx="457200" cy="5619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"/>
          <p:cNvPicPr/>
          <p:nvPr/>
        </p:nvPicPr>
        <p:blipFill>
          <a:blip r:embed="rId4"/>
          <a:stretch/>
        </p:blipFill>
        <p:spPr>
          <a:xfrm>
            <a:off x="609480" y="65160"/>
            <a:ext cx="5257800" cy="53172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F663-E7E8-4998-BAF7-439666322E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0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1e4a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1"/>
          <p:cNvSpPr/>
          <p:nvPr/>
        </p:nvSpPr>
        <p:spPr>
          <a:xfrm>
            <a:off x="0" y="838080"/>
            <a:ext cx="152280" cy="601992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24" descr="Brand_SERBIA_RGB_LO"/>
          <p:cNvPicPr/>
          <p:nvPr/>
        </p:nvPicPr>
        <p:blipFill>
          <a:blip r:embed="rId2"/>
          <a:stretch/>
        </p:blipFill>
        <p:spPr>
          <a:xfrm>
            <a:off x="6629400" y="228600"/>
            <a:ext cx="2057400" cy="2937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" descr="Description: GRB GRAY 100%"/>
          <p:cNvPicPr/>
          <p:nvPr/>
        </p:nvPicPr>
        <p:blipFill>
          <a:blip r:embed="rId3"/>
          <a:stretch/>
        </p:blipFill>
        <p:spPr>
          <a:xfrm>
            <a:off x="76320" y="52560"/>
            <a:ext cx="457200" cy="5619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" descr=""/>
          <p:cNvPicPr/>
          <p:nvPr/>
        </p:nvPicPr>
        <p:blipFill>
          <a:blip r:embed="rId4"/>
          <a:stretch/>
        </p:blipFill>
        <p:spPr>
          <a:xfrm>
            <a:off x="609480" y="65160"/>
            <a:ext cx="5257800" cy="5317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3B25-ED08-42C0-815B-6F2E30BCA2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30481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Успостављање </a:t>
            </a:r>
            <a:br>
              <a:rPr sz="3200"/>
            </a:b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програмске структуре </a:t>
            </a:r>
            <a:br>
              <a:rPr sz="3200"/>
            </a:b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буџ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Box 5"/>
          <p:cNvSpPr/>
          <p:nvPr/>
        </p:nvSpPr>
        <p:spPr>
          <a:xfrm>
            <a:off x="3757680" y="640080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000000"/>
                </a:solidFill>
                <a:latin typeface="Arial"/>
              </a:rPr>
              <a:t>Нови Сад, јун 20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228600" y="1676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7</a:t>
            </a:r>
            <a:r>
              <a:rPr b="1" lang="sr-Latn-R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НИСТАРСТВО КУЛТУРЕ И ИНФОРМИСАЊ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20 Услуге култу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11 Плате, додаци и накнаде запослених (зараде) 96.000.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12 Социјални доприноси на терет послодавца 17.500.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13 Накнаде у нату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14 Социјална давања запослени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15 Накнаде трошкова за запослене 416 Награде запосленима и остали посебни 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21 Стални трошкови 7.000.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22 Трошкови путовања 6.400.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23 Услуге по уговору 28.000.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24 Специјализоване услуге 506.871.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9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ео средстава ове апропријације намењен је за остваривање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9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општег интереса у култури на начин утврђен Законом о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RS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RS" sz="9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култури и за остваривање општег интереса у области јавног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9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нформисања; део средстава у износу од 3.500.000 динара намењен је за рад имплементационог </a:t>
            </a:r>
            <a:r>
              <a:rPr b="0" lang="sr-Latn-RS" sz="9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sr-Latn-RS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RS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25 Текуће поправке и одржавање 500.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26 Материјал 5.500.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51 Субвенције јавним нефинансијским предузећима и орган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62 Дотације међународним организацијама 19.000.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63 Трансфери осталим нивоима власти 296.000.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9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редства ове апропријације намењена су за финансирање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9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ли суфинансирање пројеката индиректних корисника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9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редстава буџета јединица локалне самоуправ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72 Накнаде за социјалну заштиту из буџета 324.000.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Box 3"/>
          <p:cNvSpPr/>
          <p:nvPr/>
        </p:nvSpPr>
        <p:spPr>
          <a:xfrm>
            <a:off x="1066680" y="98424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Пример из Закона о буџету РС за 2013. - линијски буџет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762120" y="1814040"/>
            <a:ext cx="76960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РАЗДЕО 28 - МИНИСТАРСТВО КУЛТУРЕ И ИНФОРМИСАЊ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Box 3"/>
          <p:cNvSpPr/>
          <p:nvPr/>
        </p:nvSpPr>
        <p:spPr>
          <a:xfrm>
            <a:off x="1066680" y="98424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Пример из Закона о буџету РС за 2014. –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пилотирање програмског буџе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304920" y="2743200"/>
          <a:ext cx="8610480" cy="2743200"/>
        </p:xfrm>
        <a:graphic>
          <a:graphicData uri="http://schemas.openxmlformats.org/drawingml/2006/table">
            <a:tbl>
              <a:tblPr/>
              <a:tblGrid>
                <a:gridCol w="922320"/>
                <a:gridCol w="5919840"/>
                <a:gridCol w="1768320"/>
              </a:tblGrid>
              <a:tr h="5335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 1201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ређење система у области културе и јавног информисањ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9.304.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42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 1202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аштита и очување културне баштине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78.000.000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02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 120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авремено стваралаштво и културна индустриј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91.300.000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20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 1204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истем јавног информисања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780.750.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30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 120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ђународна сарадња у култури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1.802.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02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 120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77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изнања за допринос у култури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0.000.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0000"/>
                </a:solidFill>
                <a:latin typeface="Calibri"/>
                <a:ea typeface="Calibri"/>
              </a:rPr>
              <a:t>Програм: 1202-Заштита и очување културне башт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6840" y="15238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457200" y="1752480"/>
          <a:ext cx="8153280" cy="3813120"/>
        </p:xfrm>
        <a:graphic>
          <a:graphicData uri="http://schemas.openxmlformats.org/drawingml/2006/table">
            <a:tbl>
              <a:tblPr/>
              <a:tblGrid>
                <a:gridCol w="868320"/>
                <a:gridCol w="5610240"/>
                <a:gridCol w="1674720"/>
              </a:tblGrid>
              <a:tr h="5907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А 000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покретно и археолошко наслеђ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7.400.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160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А 0002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ретно културно наслеђе - музејско, архивско, стара и ретка библиотечка грађа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.280.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59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А 000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блиотечко-информационе делатности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5.000.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62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А 0004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материјално културно наслеђе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.320.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41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А 000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ршка функционисању матичних библиотека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000.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А 000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ршка функционисању Дворског комплекса на Дедињу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.000.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4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Ј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00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нова манастира Хиландар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0.000.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ounded Rectangle 5"/>
          <p:cNvSpPr/>
          <p:nvPr/>
        </p:nvSpPr>
        <p:spPr>
          <a:xfrm>
            <a:off x="2498760" y="2163600"/>
            <a:ext cx="4317840" cy="5446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12600">
            <a:solidFill>
              <a:srgbClr val="4a7ebb"/>
            </a:solidFill>
            <a:miter/>
          </a:ln>
          <a:effectLst>
            <a:outerShdw dist="12600" dir="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alibri"/>
              </a:rPr>
              <a:t>Програм</a:t>
            </a:r>
            <a:r>
              <a:rPr b="0" lang="sr-Latn-RS" sz="2800" spc="-1" strike="noStrike">
                <a:solidFill>
                  <a:srgbClr val="ffffff"/>
                </a:solidFill>
                <a:latin typeface="Calibri"/>
              </a:rPr>
              <a:t> 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16"/>
          <p:cNvSpPr/>
          <p:nvPr/>
        </p:nvSpPr>
        <p:spPr>
          <a:xfrm>
            <a:off x="279360" y="3068640"/>
            <a:ext cx="421812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 (Headings)"/>
              </a:rPr>
              <a:t>Заједнички програми корисника буџетских средста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ight Arrow 11"/>
          <p:cNvSpPr/>
          <p:nvPr/>
        </p:nvSpPr>
        <p:spPr>
          <a:xfrm rot="5400000">
            <a:off x="3418920" y="2805120"/>
            <a:ext cx="216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ounded Rectangle 14"/>
          <p:cNvSpPr/>
          <p:nvPr/>
        </p:nvSpPr>
        <p:spPr>
          <a:xfrm>
            <a:off x="930240" y="3697200"/>
            <a:ext cx="2952720" cy="5446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12600">
            <a:solidFill>
              <a:srgbClr val="4a7ebb"/>
            </a:solidFill>
            <a:miter/>
          </a:ln>
          <a:effectLst>
            <a:outerShdw dist="12600" dir="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Програмска активност </a:t>
            </a: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ounded Rectangle 15"/>
          <p:cNvSpPr/>
          <p:nvPr/>
        </p:nvSpPr>
        <p:spPr>
          <a:xfrm>
            <a:off x="930240" y="4394160"/>
            <a:ext cx="2952720" cy="5446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12600">
            <a:solidFill>
              <a:srgbClr val="4a7ebb"/>
            </a:solidFill>
            <a:miter/>
          </a:ln>
          <a:effectLst>
            <a:outerShdw dist="12600" dir="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Програмска активност </a:t>
            </a: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ounded Rectangle 16"/>
          <p:cNvSpPr/>
          <p:nvPr/>
        </p:nvSpPr>
        <p:spPr>
          <a:xfrm>
            <a:off x="930240" y="5106960"/>
            <a:ext cx="2952720" cy="5446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12600">
            <a:solidFill>
              <a:srgbClr val="4a7ebb"/>
            </a:solidFill>
            <a:miter/>
          </a:ln>
          <a:effectLst>
            <a:outerShdw dist="12600" dir="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Пројекат </a:t>
            </a: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306360" y="3086280"/>
            <a:ext cx="442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Корисник буџетских средстава 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16"/>
          <p:cNvSpPr/>
          <p:nvPr/>
        </p:nvSpPr>
        <p:spPr>
          <a:xfrm>
            <a:off x="4707000" y="3068640"/>
            <a:ext cx="421776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ounded Rectangle 23"/>
          <p:cNvSpPr/>
          <p:nvPr/>
        </p:nvSpPr>
        <p:spPr>
          <a:xfrm>
            <a:off x="5359320" y="3697200"/>
            <a:ext cx="2951280" cy="5446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12600">
            <a:solidFill>
              <a:srgbClr val="4a7ebb"/>
            </a:solidFill>
            <a:miter/>
          </a:ln>
          <a:effectLst>
            <a:outerShdw dist="12600" dir="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Програмска активност </a:t>
            </a: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ounded Rectangle 25"/>
          <p:cNvSpPr/>
          <p:nvPr/>
        </p:nvSpPr>
        <p:spPr>
          <a:xfrm>
            <a:off x="5364000" y="4562640"/>
            <a:ext cx="2951280" cy="54432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12600">
            <a:solidFill>
              <a:srgbClr val="4a7ebb"/>
            </a:solidFill>
            <a:miter/>
          </a:ln>
          <a:effectLst>
            <a:outerShdw dist="12600" dir="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Пројекат</a:t>
            </a: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ight Arrow 27"/>
          <p:cNvSpPr/>
          <p:nvPr/>
        </p:nvSpPr>
        <p:spPr>
          <a:xfrm rot="5400000">
            <a:off x="5580000" y="2805120"/>
            <a:ext cx="216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3"/>
          <p:cNvSpPr/>
          <p:nvPr/>
        </p:nvSpPr>
        <p:spPr>
          <a:xfrm>
            <a:off x="4770360" y="3068640"/>
            <a:ext cx="442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Корисник буџетских средстава 2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Пример заједничког </a:t>
            </a:r>
            <a:r>
              <a:rPr b="1" i="1" lang="sr-RS" sz="3200" spc="-1" strike="noStrike">
                <a:solidFill>
                  <a:srgbClr val="000000"/>
                </a:solidFill>
                <a:latin typeface="Calibri"/>
              </a:rPr>
              <a:t>Програма</a:t>
            </a:r>
            <a:br>
              <a:rPr sz="3200"/>
            </a:br>
            <a:br>
              <a:rPr sz="3200"/>
            </a:br>
            <a:br>
              <a:rPr sz="28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568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Програм ’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’Унапређење и заштита људских и мањински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ава и слобода’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Програмске активнос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Унапређење положаја Рома и пружање помоћи мигрантим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(Канцеларија за људска и мањинска прав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дршка раду националних савета националних мањин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(Канцеларија за људска и мањинска права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Делотворно сузбијање и заштита од дискриминациј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(Повереник за заштиту равноправност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провођење Опционог протокола уз Конвенцију против тортуре и других сурових, нељудских или понижавајућих казни или поступака (НПМ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(Заштитник грађан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ВЕЗА ПРОГРАМА БУЏЕТА РС И АП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80520" y="1828440"/>
            <a:ext cx="84582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грами у буџету АПВ се утврђују у складу са одговарајућим програмима у буџету Републике Србије. Шифре програма  АПВ се усклађују са шифрама на централном ниво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ск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 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тив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и и пр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т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јима спроводе своје пр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, к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o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циљ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ских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тив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и и пр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oj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утврђују органи териоторијалне аутоном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ан за интеграцију информационих система за припрему буџ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0" name="Object 1"/>
          <p:cNvGraphicFramePr/>
          <p:nvPr/>
        </p:nvGraphicFramePr>
        <p:xfrm>
          <a:off x="152280" y="1905120"/>
          <a:ext cx="7247160" cy="54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05120"/>
                    <a:ext cx="7247160" cy="54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спостављање циљева 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и индикатора </a:t>
            </a:r>
            <a:br>
              <a:rPr sz="3200"/>
            </a:b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учинка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корисника буџ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3" name="Rounded Rectangle 3" descr=""/>
          <p:cNvPicPr/>
          <p:nvPr/>
        </p:nvPicPr>
        <p:blipFill>
          <a:blip r:embed="rId3"/>
          <a:stretch/>
        </p:blipFill>
        <p:spPr>
          <a:xfrm>
            <a:off x="5095800" y="3267000"/>
            <a:ext cx="1854360" cy="635040"/>
          </a:xfrm>
          <a:prstGeom prst="rect">
            <a:avLst/>
          </a:prstGeom>
          <a:ln w="0">
            <a:noFill/>
          </a:ln>
        </p:spPr>
      </p:pic>
      <p:pic>
        <p:nvPicPr>
          <p:cNvPr id="634" name="Rounded Rectangle 4" descr=""/>
          <p:cNvPicPr/>
          <p:nvPr/>
        </p:nvPicPr>
        <p:blipFill>
          <a:blip r:embed="rId4"/>
          <a:stretch/>
        </p:blipFill>
        <p:spPr>
          <a:xfrm>
            <a:off x="5626080" y="4498920"/>
            <a:ext cx="1854360" cy="689040"/>
          </a:xfrm>
          <a:prstGeom prst="rect">
            <a:avLst/>
          </a:prstGeom>
          <a:ln w="0">
            <a:noFill/>
          </a:ln>
        </p:spPr>
      </p:pic>
      <p:pic>
        <p:nvPicPr>
          <p:cNvPr id="635" name="Rounded Rectangle 5" descr=""/>
          <p:cNvPicPr/>
          <p:nvPr/>
        </p:nvPicPr>
        <p:blipFill>
          <a:blip r:embed="rId5"/>
          <a:stretch/>
        </p:blipFill>
        <p:spPr>
          <a:xfrm>
            <a:off x="6235560" y="5699160"/>
            <a:ext cx="1854360" cy="689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ПРИМЕРИ ЦИЉЕВА И ИНДИКАТОРА ПРОГРАМА У ПОЉОПРИВРЕД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53316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иљ: Технолошки развој и модернизација пољопривредне производње и прерад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д1: Удео прерађених пољопривредно прехрамбених производа у укупној вредности извоза пољопривредно-прехрамбених произво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иљ:Прилагођавање и ублажавање утицаја климатских пром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д1: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вршине наводњаваног пољопривредног земљиш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д2: Површине под противнградним мрежама и мрежама за засењивањ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иљ: Унапређење стања физичких ресурса (механизација, опрема, засади, стока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д1 Површина под засадима (вишегодишњи засади- воћњаци, виногради и остало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ПРИМЕРИ ЦИЉЕВА И ИНДИКАТОРА ПРОГРАМСКИХ АКТИВНОСТИ и ПРОЈЕКАТА У ПОЉОПРИВРЕД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33160" y="18288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Циљ: Унапређење капацитета винског и виноградарског сектор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нд1: Број произвођача који су у систему производње вина са географским порекл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Циљ:Модернизација и прилагођавање институција ЕУ стандард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нд1: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Добијен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кредитациј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ПАРД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ДА-Н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Циљ: Одрживост руралног развоја кроз диверсификацију економске активности на сел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нд1: Број газдинстава који се баве сеоским туризмо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везаност стратешког планирањ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грамског буџ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1" name="Content Placeholder 2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691240" cy="556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Зашто програмски буџе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а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скористит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његове предно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ограмски буџет у прак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ИМПЛЕМЕНТАЦИОНИ ПЛАН ЗА </a:t>
            </a:r>
            <a:br>
              <a:rPr sz="3200"/>
            </a:b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КОРИСНИКЕ БУЏЕТА АП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51920" y="182880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о 15. ју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ормирање радних група на нивоу раздела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ставници свих организационих јединица и запослени из финансијске служб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5. јун – 1. авгус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кретаријат за финансије уз подршку УСАИД Пројекта за боље услове пословања пружа техничку подршку секретаријатима и осталим корисницима буџетских средстава у изради програмске структу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 15. авгус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спостављене програмске структуре са дефинисаним циљевима и индикатор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ИТАЊА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ХВАЛА НА ПАЖЊИ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прављање јавним финансијам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и програмски буџе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ЦИЉ: Оптимизација јавне потрошњ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грамски модел као механизам за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ранспарентније и рационалније буџетско одлучивање и ефикаснију и одговорнију потрошњу (ЕУ, ОЕЦД буџетски стандар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елазак 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програмск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 моде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бавез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за све нивое власти до буџет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а 2015. годину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(Закон о буџетском систем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ounded Rectangle 4"/>
          <p:cNvSpPr/>
          <p:nvPr/>
        </p:nvSpPr>
        <p:spPr>
          <a:xfrm>
            <a:off x="4572000" y="2170080"/>
            <a:ext cx="4114800" cy="5446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12600">
            <a:solidFill>
              <a:srgbClr val="4a7ebb"/>
            </a:solidFill>
            <a:miter/>
          </a:ln>
          <a:effectLst>
            <a:outerShdw dist="12600" dir="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Програмски буџе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ounded Rectangle 5"/>
          <p:cNvSpPr/>
          <p:nvPr/>
        </p:nvSpPr>
        <p:spPr>
          <a:xfrm>
            <a:off x="685800" y="2170080"/>
            <a:ext cx="3505320" cy="5446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12600">
            <a:solidFill>
              <a:srgbClr val="4a7ebb"/>
            </a:solidFill>
            <a:miter/>
          </a:ln>
          <a:effectLst>
            <a:outerShdw dist="12600" dir="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Линијски буџе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5"/>
          <p:cNvSpPr/>
          <p:nvPr/>
        </p:nvSpPr>
        <p:spPr>
          <a:xfrm>
            <a:off x="4529160" y="279396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Приказује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Сврху трошења средстав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Повезаност потрошње са стратешким циљевим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Какви резултати се остваруј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4f81b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6"/>
          <p:cNvSpPr/>
          <p:nvPr/>
        </p:nvSpPr>
        <p:spPr>
          <a:xfrm>
            <a:off x="638280" y="2792520"/>
            <a:ext cx="373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Економска класификација расхода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Плат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Роб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Услуг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f81b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-228960" y="843120"/>
            <a:ext cx="9829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лике између програмског и линијског буџ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рограмск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модел пруж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647280" y="15235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снову за аргументовану дискусију о потребним средств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динствени оквир за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тврђивање приорите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асх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снову за бољу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ординациј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 у спровођењу јавних полит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лат за боље управљање учинком и унапређен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слуг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јавне упра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Како искористити предности програмског буџета? Шта је још потребн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24382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кљученост у реформу свих актера у ланцу буџетирања (корисници буџета, Секретаријат за финансије, Влада, Скупштин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азумевање и коришћење програмског буџета као алата  - свако у свом домен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рограмска структура буџетског корис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8" name="Group 27"/>
          <p:cNvGrpSpPr/>
          <p:nvPr/>
        </p:nvGrpSpPr>
        <p:grpSpPr>
          <a:xfrm>
            <a:off x="2209680" y="1712880"/>
            <a:ext cx="4751640" cy="4383000"/>
            <a:chOff x="2209680" y="1712880"/>
            <a:chExt cx="4751640" cy="4383000"/>
          </a:xfrm>
        </p:grpSpPr>
        <p:sp>
          <p:nvSpPr>
            <p:cNvPr id="579" name="Straight Connector 4"/>
            <p:cNvSpPr/>
            <p:nvPr/>
          </p:nvSpPr>
          <p:spPr>
            <a:xfrm>
              <a:off x="3208320" y="2438280"/>
              <a:ext cx="549000" cy="115092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1150920"/>
                <a:gd name="textAreaBottom" fmla="*/ 1151280 h 1150920"/>
              </a:gdLst>
              <a:ahLst/>
              <a:rect l="textAreaLeft" t="textAreaTop" r="textAreaRight" b="textAreaBottom"/>
              <a:pathLst>
                <a:path w="549309" h="1150852">
                  <a:moveTo>
                    <a:pt x="0" y="0"/>
                  </a:moveTo>
                  <a:lnTo>
                    <a:pt x="0" y="1150941"/>
                  </a:lnTo>
                  <a:lnTo>
                    <a:pt x="548876" y="1150941"/>
                  </a:lnTo>
                </a:path>
              </a:pathLst>
            </a:custGeom>
            <a:noFill/>
            <a:ln w="25560">
              <a:solidFill>
                <a:srgbClr val="4774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Straight Connector 5"/>
            <p:cNvSpPr/>
            <p:nvPr/>
          </p:nvSpPr>
          <p:spPr>
            <a:xfrm>
              <a:off x="3208320" y="2393640"/>
              <a:ext cx="549000" cy="50292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549309" h="503200">
                  <a:moveTo>
                    <a:pt x="0" y="0"/>
                  </a:moveTo>
                  <a:lnTo>
                    <a:pt x="0" y="503174"/>
                  </a:lnTo>
                  <a:lnTo>
                    <a:pt x="548876" y="503174"/>
                  </a:lnTo>
                </a:path>
              </a:pathLst>
            </a:custGeom>
            <a:noFill/>
            <a:ln w="25560">
              <a:solidFill>
                <a:srgbClr val="4774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" name="Group 30"/>
            <p:cNvGrpSpPr/>
            <p:nvPr/>
          </p:nvGrpSpPr>
          <p:grpSpPr>
            <a:xfrm>
              <a:off x="2209680" y="1712880"/>
              <a:ext cx="4751640" cy="680400"/>
              <a:chOff x="2209680" y="1712880"/>
              <a:chExt cx="4751640" cy="680400"/>
            </a:xfrm>
          </p:grpSpPr>
          <p:sp>
            <p:nvSpPr>
              <p:cNvPr id="582" name="Rectangle 48"/>
              <p:cNvSpPr/>
              <p:nvPr/>
            </p:nvSpPr>
            <p:spPr>
              <a:xfrm>
                <a:off x="2209680" y="1712880"/>
                <a:ext cx="4751640" cy="6804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Rectangle 49"/>
              <p:cNvSpPr/>
              <p:nvPr/>
            </p:nvSpPr>
            <p:spPr>
              <a:xfrm>
                <a:off x="2209680" y="1712880"/>
                <a:ext cx="4751640" cy="68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Програм 1 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Group 31"/>
            <p:cNvGrpSpPr/>
            <p:nvPr/>
          </p:nvGrpSpPr>
          <p:grpSpPr>
            <a:xfrm>
              <a:off x="3745440" y="2666520"/>
              <a:ext cx="3204000" cy="488160"/>
              <a:chOff x="3745440" y="2666520"/>
              <a:chExt cx="3204000" cy="488160"/>
            </a:xfrm>
          </p:grpSpPr>
          <p:sp>
            <p:nvSpPr>
              <p:cNvPr id="585" name="Rectangle 46"/>
              <p:cNvSpPr/>
              <p:nvPr/>
            </p:nvSpPr>
            <p:spPr>
              <a:xfrm>
                <a:off x="3745440" y="2666520"/>
                <a:ext cx="3204000" cy="4881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Rectangle 47"/>
              <p:cNvSpPr/>
              <p:nvPr/>
            </p:nvSpPr>
            <p:spPr>
              <a:xfrm>
                <a:off x="3745440" y="2666520"/>
                <a:ext cx="3204000" cy="48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Calibri"/>
                  </a:rPr>
                  <a:t>Програмска активност 1 </a:t>
                </a:r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32"/>
            <p:cNvGrpSpPr/>
            <p:nvPr/>
          </p:nvGrpSpPr>
          <p:grpSpPr>
            <a:xfrm>
              <a:off x="3757320" y="3356640"/>
              <a:ext cx="3204000" cy="526320"/>
              <a:chOff x="3757320" y="3356640"/>
              <a:chExt cx="3204000" cy="526320"/>
            </a:xfrm>
          </p:grpSpPr>
          <p:sp>
            <p:nvSpPr>
              <p:cNvPr id="588" name="Rectangle 44"/>
              <p:cNvSpPr/>
              <p:nvPr/>
            </p:nvSpPr>
            <p:spPr>
              <a:xfrm>
                <a:off x="3757320" y="3356640"/>
                <a:ext cx="3204000" cy="52632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Rectangle 45"/>
              <p:cNvSpPr/>
              <p:nvPr/>
            </p:nvSpPr>
            <p:spPr>
              <a:xfrm>
                <a:off x="3757320" y="3356640"/>
                <a:ext cx="3204000" cy="52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Calibri"/>
                  </a:rPr>
                  <a:t>Програмска активност 2</a:t>
                </a:r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Group 33"/>
            <p:cNvGrpSpPr/>
            <p:nvPr/>
          </p:nvGrpSpPr>
          <p:grpSpPr>
            <a:xfrm>
              <a:off x="2353680" y="5438160"/>
              <a:ext cx="4607640" cy="657720"/>
              <a:chOff x="2353680" y="5438160"/>
              <a:chExt cx="4607640" cy="657720"/>
            </a:xfrm>
          </p:grpSpPr>
          <p:sp>
            <p:nvSpPr>
              <p:cNvPr id="591" name="Rectangle 42"/>
              <p:cNvSpPr/>
              <p:nvPr/>
            </p:nvSpPr>
            <p:spPr>
              <a:xfrm>
                <a:off x="2353680" y="5438160"/>
                <a:ext cx="4607640" cy="65772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Rectangle 43"/>
              <p:cNvSpPr/>
              <p:nvPr/>
            </p:nvSpPr>
            <p:spPr>
              <a:xfrm>
                <a:off x="2353680" y="5438160"/>
                <a:ext cx="4607640" cy="65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</a:rPr>
                  <a:t>Програм 2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3" name="Group 34"/>
            <p:cNvGrpSpPr/>
            <p:nvPr/>
          </p:nvGrpSpPr>
          <p:grpSpPr>
            <a:xfrm>
              <a:off x="3757320" y="4012200"/>
              <a:ext cx="3204000" cy="546480"/>
              <a:chOff x="3757320" y="4012200"/>
              <a:chExt cx="3204000" cy="546480"/>
            </a:xfrm>
          </p:grpSpPr>
          <p:sp>
            <p:nvSpPr>
              <p:cNvPr id="594" name="Rectangle 40"/>
              <p:cNvSpPr/>
              <p:nvPr/>
            </p:nvSpPr>
            <p:spPr>
              <a:xfrm>
                <a:off x="3757320" y="4075560"/>
                <a:ext cx="3204000" cy="48312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Calibri"/>
                  </a:rPr>
                  <a:t>Пројекат 1</a:t>
                </a:r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Rectangle 41"/>
              <p:cNvSpPr/>
              <p:nvPr/>
            </p:nvSpPr>
            <p:spPr>
              <a:xfrm>
                <a:off x="3757320" y="4012200"/>
                <a:ext cx="3204000" cy="48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040" rIns="14040" tIns="14040" bIns="140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964"/>
                  </a:spcAft>
                  <a:buClr>
                    <a:srgbClr val="1e4abd"/>
                  </a:buClr>
                  <a:buSzPct val="80000"/>
                  <a:buFont typeface="Wingdings" charset="2"/>
                  <a:buChar char=""/>
                  <a:tabLst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35"/>
            <p:cNvGrpSpPr/>
            <p:nvPr/>
          </p:nvGrpSpPr>
          <p:grpSpPr>
            <a:xfrm>
              <a:off x="3745440" y="4686120"/>
              <a:ext cx="3204000" cy="647640"/>
              <a:chOff x="3745440" y="4686120"/>
              <a:chExt cx="3204000" cy="647640"/>
            </a:xfrm>
          </p:grpSpPr>
          <p:sp>
            <p:nvSpPr>
              <p:cNvPr id="597" name="Rectangle 38"/>
              <p:cNvSpPr/>
              <p:nvPr/>
            </p:nvSpPr>
            <p:spPr>
              <a:xfrm>
                <a:off x="3745440" y="4686120"/>
                <a:ext cx="3193200" cy="4842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Calibri"/>
                  </a:rPr>
                  <a:t>Пројекат 2 (капитални)  </a:t>
                </a:r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Rectangle 39"/>
              <p:cNvSpPr/>
              <p:nvPr/>
            </p:nvSpPr>
            <p:spPr>
              <a:xfrm>
                <a:off x="3756240" y="4686120"/>
                <a:ext cx="3193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040" rIns="14040" tIns="14040" bIns="140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964"/>
                  </a:spcAft>
                  <a:buClr>
                    <a:srgbClr val="1e4abd"/>
                  </a:buClr>
                  <a:buSzPct val="80000"/>
                  <a:buFont typeface="Wingdings" charset="2"/>
                  <a:buChar char=""/>
                  <a:tabLst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Straight Connector 4"/>
            <p:cNvSpPr/>
            <p:nvPr/>
          </p:nvSpPr>
          <p:spPr>
            <a:xfrm>
              <a:off x="3208320" y="3789360"/>
              <a:ext cx="603000" cy="1793880"/>
            </a:xfrm>
            <a:custGeom>
              <a:avLst/>
              <a:gdLst>
                <a:gd name="textAreaLeft" fmla="*/ 0 w 603000"/>
                <a:gd name="textAreaRight" fmla="*/ 603360 w 603000"/>
                <a:gd name="textAreaTop" fmla="*/ 0 h 1793880"/>
                <a:gd name="textAreaBottom" fmla="*/ 1794240 h 1793880"/>
              </a:gdLst>
              <a:ahLst/>
              <a:rect l="textAreaLeft" t="textAreaTop" r="textAreaRight" b="textAreaBottom"/>
              <a:pathLst>
                <a:path w="603288" h="1793740">
                  <a:moveTo>
                    <a:pt x="0" y="0"/>
                  </a:moveTo>
                  <a:lnTo>
                    <a:pt x="0" y="1150941"/>
                  </a:lnTo>
                  <a:lnTo>
                    <a:pt x="548876" y="1150941"/>
                  </a:lnTo>
                </a:path>
              </a:pathLst>
            </a:custGeom>
            <a:noFill/>
            <a:ln w="25560">
              <a:solidFill>
                <a:srgbClr val="4774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Straight Connector 4"/>
            <p:cNvSpPr/>
            <p:nvPr/>
          </p:nvSpPr>
          <p:spPr>
            <a:xfrm>
              <a:off x="3208320" y="3114720"/>
              <a:ext cx="603000" cy="1793880"/>
            </a:xfrm>
            <a:custGeom>
              <a:avLst/>
              <a:gdLst>
                <a:gd name="textAreaLeft" fmla="*/ 0 w 603000"/>
                <a:gd name="textAreaRight" fmla="*/ 603360 w 603000"/>
                <a:gd name="textAreaTop" fmla="*/ 0 h 1793880"/>
                <a:gd name="textAreaBottom" fmla="*/ 1794240 h 1793880"/>
              </a:gdLst>
              <a:ahLst/>
              <a:rect l="textAreaLeft" t="textAreaTop" r="textAreaRight" b="textAreaBottom"/>
              <a:pathLst>
                <a:path w="603288" h="1793740">
                  <a:moveTo>
                    <a:pt x="0" y="0"/>
                  </a:moveTo>
                  <a:lnTo>
                    <a:pt x="0" y="1150941"/>
                  </a:lnTo>
                  <a:lnTo>
                    <a:pt x="548876" y="1150941"/>
                  </a:lnTo>
                </a:path>
              </a:pathLst>
            </a:custGeom>
            <a:noFill/>
            <a:ln w="25560">
              <a:solidFill>
                <a:srgbClr val="4774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имер: Програми Министарства пољопривреде и заштите животне сред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914400" y="2286000"/>
          <a:ext cx="7543800" cy="3213000"/>
        </p:xfrm>
        <a:graphic>
          <a:graphicData uri="http://schemas.openxmlformats.org/drawingml/2006/table">
            <a:tbl>
              <a:tblPr/>
              <a:tblGrid>
                <a:gridCol w="425520"/>
                <a:gridCol w="7118280"/>
              </a:tblGrid>
              <a:tr h="476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ређење и надзор у области пољопривред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5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аштита, уређење и коришћење пољопривредног земљишт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6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дстицаји пољопривредној производњи  и руралном развој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6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аштита биља, ветерина и безбедност хран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5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нтегрално управљање водам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6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звој шумарства и ловств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6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аштита и мониторинг животне средин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огра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Calibri"/>
              </a:rPr>
              <a:t>Подстицаји пољопривредној производњи  и руралном развој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380880" y="2438280"/>
          <a:ext cx="8534520" cy="2984760"/>
        </p:xfrm>
        <a:graphic>
          <a:graphicData uri="http://schemas.openxmlformats.org/drawingml/2006/table">
            <a:tbl>
              <a:tblPr/>
              <a:tblGrid>
                <a:gridCol w="476280"/>
                <a:gridCol w="7256520"/>
                <a:gridCol w="801720"/>
              </a:tblGrid>
              <a:tr h="73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ректни подстицаји (премије - премија за млеко, подстицаји за производњу, регреси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ЗАП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90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дитна подршка у  пољопривред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ЗРП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ре руралног развоја 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ЗАП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ебни подстицај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ЗАП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ршка приватном сектору  за воће, јагодичасто и бобичасто воће у јужној</a:t>
                      </a:r>
                      <a:r>
                        <a:rPr b="0" i="1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бији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ЗАП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77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градња система и идентификација земљишних парцел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ЗАП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20:07:42Z</dcterms:created>
  <dc:creator>Design Studio</dc:creator>
  <dc:description/>
  <dc:language>en-US</dc:language>
  <cp:lastModifiedBy>Stefan Nedeljkovic</cp:lastModifiedBy>
  <cp:lastPrinted>2014-01-14T15:16:38Z</cp:lastPrinted>
  <dcterms:modified xsi:type="dcterms:W3CDTF">2014-06-10T08:13:45Z</dcterms:modified>
  <cp:revision>437</cp:revision>
  <dc:subject/>
  <dc:title>PowerPoint Presentation</dc:title>
</cp:coreProperties>
</file>